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80C1-30C4-4A1F-9CF7-89B5B786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D505-2116-4AA8-9C2B-01168975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9CD5-EE60-46AB-964D-B984C9FA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42D1-88F8-438A-9C96-982CD2ED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5EC2-FA43-490F-8C5C-CDD5ABAB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D461-4F14-43A1-8612-5CA3B59B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53D8-7DF6-4C7D-A137-0285C30B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57D1-7CF7-4F3A-994A-19182073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066C-DEFA-4A35-8EB5-C330F6A3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4A59-34A8-47EA-9258-5C237D4E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EC8D-35DB-46E3-881A-EDA17F7C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1752-FAE2-4D2C-AFFE-7E1CA153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939F-F30F-434B-904D-232D103C774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ormal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Forms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C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9880" y="327672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3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15200" y="51814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38080" y="4191120"/>
            <a:ext cx="2971800" cy="1066680"/>
            <a:chOff x="838080" y="4191120"/>
            <a:chExt cx="2971800" cy="1066680"/>
          </a:xfrm>
        </p:grpSpPr>
        <p:sp>
          <p:nvSpPr>
            <p:cNvPr id="291" name=""/>
            <p:cNvSpPr/>
            <p:nvPr/>
          </p:nvSpPr>
          <p:spPr>
            <a:xfrm flipH="1" flipV="1">
              <a:off x="2895480" y="41911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752480" y="4191120"/>
            <a:ext cx="2895840" cy="1066680"/>
            <a:chOff x="1752480" y="4191120"/>
            <a:chExt cx="2895840" cy="1066680"/>
          </a:xfrm>
        </p:grpSpPr>
        <p:sp>
          <p:nvSpPr>
            <p:cNvPr id="294" name=""/>
            <p:cNvSpPr/>
            <p:nvPr/>
          </p:nvSpPr>
          <p:spPr>
            <a:xfrm flipV="1">
              <a:off x="1752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71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90920" y="4191120"/>
            <a:ext cx="2971800" cy="1066680"/>
            <a:chOff x="2590920" y="4191120"/>
            <a:chExt cx="2971800" cy="1066680"/>
          </a:xfrm>
        </p:grpSpPr>
        <p:sp>
          <p:nvSpPr>
            <p:cNvPr id="297" name=""/>
            <p:cNvSpPr/>
            <p:nvPr/>
          </p:nvSpPr>
          <p:spPr>
            <a:xfrm flipH="1" flipV="1">
              <a:off x="4648320" y="4191120"/>
              <a:ext cx="914400" cy="380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4191120"/>
              <a:ext cx="167616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505320" y="4191120"/>
            <a:ext cx="2965320" cy="1054080"/>
            <a:chOff x="3505320" y="4191120"/>
            <a:chExt cx="2965320" cy="1054080"/>
          </a:xfrm>
        </p:grpSpPr>
        <p:sp>
          <p:nvSpPr>
            <p:cNvPr id="300" name=""/>
            <p:cNvSpPr/>
            <p:nvPr/>
          </p:nvSpPr>
          <p:spPr>
            <a:xfrm flipV="1">
              <a:off x="3505320" y="4266720"/>
              <a:ext cx="7617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4280" y="4191120"/>
              <a:ext cx="1746360" cy="1054080"/>
            </a:xfrm>
            <a:custGeom>
              <a:avLst/>
              <a:gdLst/>
              <a:ahLst/>
              <a:rect l="l" t="t" r="r" b="b"/>
              <a:pathLst>
                <a:path w="1100" h="664">
                  <a:moveTo>
                    <a:pt x="1032" y="664"/>
                  </a:moveTo>
                  <a:cubicBezTo>
                    <a:pt x="1011" y="585"/>
                    <a:pt x="1100" y="311"/>
                    <a:pt x="928" y="200"/>
                  </a:cubicBezTo>
                  <a:cubicBezTo>
                    <a:pt x="756" y="89"/>
                    <a:pt x="193" y="4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267080" y="4191120"/>
            <a:ext cx="2895480" cy="1066680"/>
            <a:chOff x="4267080" y="4191120"/>
            <a:chExt cx="2895480" cy="1066680"/>
          </a:xfrm>
        </p:grpSpPr>
        <p:sp>
          <p:nvSpPr>
            <p:cNvPr id="303" name=""/>
            <p:cNvSpPr/>
            <p:nvPr/>
          </p:nvSpPr>
          <p:spPr>
            <a:xfrm flipH="1" flipV="1">
              <a:off x="6324120" y="4191120"/>
              <a:ext cx="83844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67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181480" y="4191120"/>
            <a:ext cx="2895840" cy="1066680"/>
            <a:chOff x="5181480" y="4191120"/>
            <a:chExt cx="2895840" cy="1066680"/>
          </a:xfrm>
        </p:grpSpPr>
        <p:sp>
          <p:nvSpPr>
            <p:cNvPr id="306" name=""/>
            <p:cNvSpPr/>
            <p:nvPr/>
          </p:nvSpPr>
          <p:spPr>
            <a:xfrm flipV="1">
              <a:off x="5181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00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724280" y="274320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4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838080" y="3580920"/>
            <a:ext cx="3810240" cy="1676880"/>
            <a:chOff x="838080" y="3580920"/>
            <a:chExt cx="3810240" cy="1676880"/>
          </a:xfrm>
        </p:grpSpPr>
        <p:sp>
          <p:nvSpPr>
            <p:cNvPr id="345" name=""/>
            <p:cNvSpPr/>
            <p:nvPr/>
          </p:nvSpPr>
          <p:spPr>
            <a:xfrm flipH="1" flipV="1">
              <a:off x="3733920" y="3580920"/>
              <a:ext cx="914400" cy="3049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3594240"/>
              <a:ext cx="2629080" cy="1663560"/>
            </a:xfrm>
            <a:custGeom>
              <a:avLst/>
              <a:gdLst/>
              <a:ahLst/>
              <a:rect l="l" t="t" r="r" b="b"/>
              <a:pathLst>
                <a:path w="1656" h="1048">
                  <a:moveTo>
                    <a:pt x="0" y="1048"/>
                  </a:moveTo>
                  <a:cubicBezTo>
                    <a:pt x="71" y="909"/>
                    <a:pt x="148" y="391"/>
                    <a:pt x="424" y="216"/>
                  </a:cubicBezTo>
                  <a:cubicBezTo>
                    <a:pt x="700" y="41"/>
                    <a:pt x="1399" y="45"/>
                    <a:pt x="16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95288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676520" y="3581280"/>
            <a:ext cx="3855960" cy="990720"/>
            <a:chOff x="1676520" y="3581280"/>
            <a:chExt cx="3855960" cy="990720"/>
          </a:xfrm>
        </p:grpSpPr>
        <p:sp>
          <p:nvSpPr>
            <p:cNvPr id="353" name=""/>
            <p:cNvSpPr/>
            <p:nvPr/>
          </p:nvSpPr>
          <p:spPr>
            <a:xfrm>
              <a:off x="3809880" y="3581280"/>
              <a:ext cx="1722600" cy="965160"/>
            </a:xfrm>
            <a:custGeom>
              <a:avLst/>
              <a:gdLst/>
              <a:ahLst/>
              <a:rect l="l" t="t" r="r" b="b"/>
              <a:pathLst>
                <a:path w="1085" h="608">
                  <a:moveTo>
                    <a:pt x="1064" y="608"/>
                  </a:moveTo>
                  <a:cubicBezTo>
                    <a:pt x="1056" y="536"/>
                    <a:pt x="1085" y="252"/>
                    <a:pt x="1016" y="176"/>
                  </a:cubicBezTo>
                  <a:cubicBezTo>
                    <a:pt x="947" y="100"/>
                    <a:pt x="817" y="181"/>
                    <a:pt x="648" y="152"/>
                  </a:cubicBezTo>
                  <a:cubicBezTo>
                    <a:pt x="479" y="123"/>
                    <a:pt x="135" y="32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76520" y="3619440"/>
              <a:ext cx="1752480" cy="952560"/>
            </a:xfrm>
            <a:custGeom>
              <a:avLst/>
              <a:gdLst/>
              <a:ahLst/>
              <a:rect l="l" t="t" r="r" b="b"/>
              <a:pathLst>
                <a:path w="1104" h="600">
                  <a:moveTo>
                    <a:pt x="0" y="600"/>
                  </a:moveTo>
                  <a:cubicBezTo>
                    <a:pt x="47" y="535"/>
                    <a:pt x="96" y="308"/>
                    <a:pt x="280" y="208"/>
                  </a:cubicBezTo>
                  <a:cubicBezTo>
                    <a:pt x="464" y="108"/>
                    <a:pt x="932" y="43"/>
                    <a:pt x="1104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590920" y="3606840"/>
            <a:ext cx="3821040" cy="1638360"/>
            <a:chOff x="2590920" y="3606840"/>
            <a:chExt cx="3821040" cy="1638360"/>
          </a:xfrm>
        </p:grpSpPr>
        <p:sp>
          <p:nvSpPr>
            <p:cNvPr id="356" name=""/>
            <p:cNvSpPr/>
            <p:nvPr/>
          </p:nvSpPr>
          <p:spPr>
            <a:xfrm>
              <a:off x="4000680" y="3606840"/>
              <a:ext cx="2411280" cy="1638360"/>
            </a:xfrm>
            <a:custGeom>
              <a:avLst/>
              <a:gdLst/>
              <a:ahLst/>
              <a:rect l="l" t="t" r="r" b="b"/>
              <a:pathLst>
                <a:path w="1519" h="1032">
                  <a:moveTo>
                    <a:pt x="1488" y="1032"/>
                  </a:moveTo>
                  <a:cubicBezTo>
                    <a:pt x="1481" y="959"/>
                    <a:pt x="1519" y="688"/>
                    <a:pt x="1448" y="592"/>
                  </a:cubicBezTo>
                  <a:cubicBezTo>
                    <a:pt x="1377" y="496"/>
                    <a:pt x="1153" y="535"/>
                    <a:pt x="1064" y="456"/>
                  </a:cubicBezTo>
                  <a:cubicBezTo>
                    <a:pt x="975" y="377"/>
                    <a:pt x="985" y="179"/>
                    <a:pt x="912" y="120"/>
                  </a:cubicBezTo>
                  <a:cubicBezTo>
                    <a:pt x="839" y="61"/>
                    <a:pt x="776" y="124"/>
                    <a:pt x="624" y="104"/>
                  </a:cubicBezTo>
                  <a:cubicBezTo>
                    <a:pt x="472" y="84"/>
                    <a:pt x="130" y="2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590920" y="3657240"/>
              <a:ext cx="76176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654280" y="3556080"/>
            <a:ext cx="3669840" cy="1727280"/>
            <a:chOff x="2654280" y="3556080"/>
            <a:chExt cx="3669840" cy="1727280"/>
          </a:xfrm>
        </p:grpSpPr>
        <p:sp>
          <p:nvSpPr>
            <p:cNvPr id="359" name=""/>
            <p:cNvSpPr/>
            <p:nvPr/>
          </p:nvSpPr>
          <p:spPr>
            <a:xfrm flipH="1" flipV="1">
              <a:off x="5676480" y="3645000"/>
              <a:ext cx="647640" cy="241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54280" y="3556080"/>
              <a:ext cx="2451240" cy="1727280"/>
            </a:xfrm>
            <a:custGeom>
              <a:avLst/>
              <a:gdLst/>
              <a:ahLst/>
              <a:rect l="l" t="t" r="r" b="b"/>
              <a:pathLst>
                <a:path w="1544" h="1088">
                  <a:moveTo>
                    <a:pt x="0" y="1088"/>
                  </a:moveTo>
                  <a:cubicBezTo>
                    <a:pt x="12" y="1016"/>
                    <a:pt x="3" y="751"/>
                    <a:pt x="80" y="656"/>
                  </a:cubicBezTo>
                  <a:cubicBezTo>
                    <a:pt x="157" y="561"/>
                    <a:pt x="375" y="599"/>
                    <a:pt x="464" y="520"/>
                  </a:cubicBezTo>
                  <a:cubicBezTo>
                    <a:pt x="553" y="441"/>
                    <a:pt x="543" y="243"/>
                    <a:pt x="616" y="184"/>
                  </a:cubicBezTo>
                  <a:cubicBezTo>
                    <a:pt x="689" y="125"/>
                    <a:pt x="749" y="199"/>
                    <a:pt x="904" y="168"/>
                  </a:cubicBezTo>
                  <a:cubicBezTo>
                    <a:pt x="1059" y="137"/>
                    <a:pt x="1411" y="35"/>
                    <a:pt x="1544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540240" y="3556080"/>
            <a:ext cx="3681360" cy="990360"/>
            <a:chOff x="3540240" y="3556080"/>
            <a:chExt cx="3681360" cy="990360"/>
          </a:xfrm>
        </p:grpSpPr>
        <p:sp>
          <p:nvSpPr>
            <p:cNvPr id="362" name=""/>
            <p:cNvSpPr/>
            <p:nvPr/>
          </p:nvSpPr>
          <p:spPr>
            <a:xfrm>
              <a:off x="5600880" y="3606840"/>
              <a:ext cx="1620720" cy="939600"/>
            </a:xfrm>
            <a:custGeom>
              <a:avLst/>
              <a:gdLst/>
              <a:ahLst/>
              <a:rect l="l" t="t" r="r" b="b"/>
              <a:pathLst>
                <a:path w="1021" h="592">
                  <a:moveTo>
                    <a:pt x="992" y="592"/>
                  </a:moveTo>
                  <a:cubicBezTo>
                    <a:pt x="969" y="521"/>
                    <a:pt x="1021" y="267"/>
                    <a:pt x="856" y="168"/>
                  </a:cubicBezTo>
                  <a:cubicBezTo>
                    <a:pt x="691" y="69"/>
                    <a:pt x="178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40240" y="3556080"/>
              <a:ext cx="1654200" cy="990360"/>
            </a:xfrm>
            <a:custGeom>
              <a:avLst/>
              <a:gdLst/>
              <a:ahLst/>
              <a:rect l="l" t="t" r="r" b="b"/>
              <a:pathLst>
                <a:path w="1042" h="624">
                  <a:moveTo>
                    <a:pt x="0" y="624"/>
                  </a:moveTo>
                  <a:cubicBezTo>
                    <a:pt x="18" y="565"/>
                    <a:pt x="34" y="345"/>
                    <a:pt x="106" y="272"/>
                  </a:cubicBezTo>
                  <a:cubicBezTo>
                    <a:pt x="178" y="199"/>
                    <a:pt x="278" y="229"/>
                    <a:pt x="434" y="184"/>
                  </a:cubicBezTo>
                  <a:cubicBezTo>
                    <a:pt x="590" y="139"/>
                    <a:pt x="915" y="38"/>
                    <a:pt x="1042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343400" y="3580920"/>
            <a:ext cx="3746520" cy="1638720"/>
            <a:chOff x="4343400" y="3580920"/>
            <a:chExt cx="3746520" cy="1638720"/>
          </a:xfrm>
        </p:grpSpPr>
        <p:sp>
          <p:nvSpPr>
            <p:cNvPr id="365" name=""/>
            <p:cNvSpPr/>
            <p:nvPr/>
          </p:nvSpPr>
          <p:spPr>
            <a:xfrm flipV="1">
              <a:off x="4343400" y="358092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62720" y="3581280"/>
              <a:ext cx="2527200" cy="1638360"/>
            </a:xfrm>
            <a:custGeom>
              <a:avLst/>
              <a:gdLst/>
              <a:ahLst/>
              <a:rect l="l" t="t" r="r" b="b"/>
              <a:pathLst>
                <a:path w="1592" h="1032">
                  <a:moveTo>
                    <a:pt x="1592" y="1032"/>
                  </a:moveTo>
                  <a:cubicBezTo>
                    <a:pt x="1532" y="896"/>
                    <a:pt x="1497" y="388"/>
                    <a:pt x="1232" y="216"/>
                  </a:cubicBezTo>
                  <a:cubicBezTo>
                    <a:pt x="967" y="44"/>
                    <a:pt x="257" y="45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286000" y="24382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5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146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11320" y="25909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259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505320" y="2895480"/>
            <a:ext cx="4495320" cy="2360880"/>
            <a:chOff x="3505320" y="2895480"/>
            <a:chExt cx="4495320" cy="2360880"/>
          </a:xfrm>
        </p:grpSpPr>
        <p:sp>
          <p:nvSpPr>
            <p:cNvPr id="410" name=""/>
            <p:cNvSpPr/>
            <p:nvPr/>
          </p:nvSpPr>
          <p:spPr>
            <a:xfrm flipV="1">
              <a:off x="3505320" y="3047760"/>
              <a:ext cx="7617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647600" y="289548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914400" y="2884320"/>
            <a:ext cx="4572000" cy="2360880"/>
            <a:chOff x="914400" y="2884320"/>
            <a:chExt cx="4572000" cy="2360880"/>
          </a:xfrm>
        </p:grpSpPr>
        <p:sp>
          <p:nvSpPr>
            <p:cNvPr id="413" name=""/>
            <p:cNvSpPr/>
            <p:nvPr/>
          </p:nvSpPr>
          <p:spPr>
            <a:xfrm>
              <a:off x="914400" y="288432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4648320" y="3047760"/>
              <a:ext cx="838080" cy="2286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532240" y="3009960"/>
            <a:ext cx="4724280" cy="1560600"/>
            <a:chOff x="2532240" y="3009960"/>
            <a:chExt cx="4724280" cy="1560600"/>
          </a:xfrm>
        </p:grpSpPr>
        <p:sp>
          <p:nvSpPr>
            <p:cNvPr id="416" name=""/>
            <p:cNvSpPr/>
            <p:nvPr/>
          </p:nvSpPr>
          <p:spPr>
            <a:xfrm>
              <a:off x="2532240" y="3009960"/>
              <a:ext cx="1684080" cy="825480"/>
            </a:xfrm>
            <a:custGeom>
              <a:avLst/>
              <a:gdLst/>
              <a:ahLst/>
              <a:rect l="l" t="t" r="r" b="b"/>
              <a:pathLst>
                <a:path w="1061" h="520">
                  <a:moveTo>
                    <a:pt x="0" y="520"/>
                  </a:moveTo>
                  <a:cubicBezTo>
                    <a:pt x="46" y="464"/>
                    <a:pt x="100" y="271"/>
                    <a:pt x="277" y="184"/>
                  </a:cubicBezTo>
                  <a:cubicBezTo>
                    <a:pt x="454" y="97"/>
                    <a:pt x="898" y="38"/>
                    <a:pt x="1061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24560" y="3021120"/>
              <a:ext cx="2631960" cy="1549440"/>
            </a:xfrm>
            <a:custGeom>
              <a:avLst/>
              <a:gdLst/>
              <a:ahLst/>
              <a:rect l="l" t="t" r="r" b="b"/>
              <a:pathLst>
                <a:path w="1658" h="976">
                  <a:moveTo>
                    <a:pt x="1600" y="976"/>
                  </a:moveTo>
                  <a:cubicBezTo>
                    <a:pt x="1565" y="842"/>
                    <a:pt x="1658" y="332"/>
                    <a:pt x="1391" y="169"/>
                  </a:cubicBezTo>
                  <a:cubicBezTo>
                    <a:pt x="1124" y="6"/>
                    <a:pt x="290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735200" y="3009960"/>
            <a:ext cx="4857840" cy="1549440"/>
            <a:chOff x="1735200" y="3009960"/>
            <a:chExt cx="4857840" cy="1549440"/>
          </a:xfrm>
        </p:grpSpPr>
        <p:sp>
          <p:nvSpPr>
            <p:cNvPr id="419" name=""/>
            <p:cNvSpPr/>
            <p:nvPr/>
          </p:nvSpPr>
          <p:spPr>
            <a:xfrm>
              <a:off x="1735200" y="3009960"/>
              <a:ext cx="2557440" cy="1549440"/>
            </a:xfrm>
            <a:custGeom>
              <a:avLst/>
              <a:gdLst/>
              <a:ahLst/>
              <a:rect l="l" t="t" r="r" b="b"/>
              <a:pathLst>
                <a:path w="1611" h="976">
                  <a:moveTo>
                    <a:pt x="11" y="976"/>
                  </a:moveTo>
                  <a:cubicBezTo>
                    <a:pt x="54" y="851"/>
                    <a:pt x="0" y="387"/>
                    <a:pt x="267" y="224"/>
                  </a:cubicBezTo>
                  <a:cubicBezTo>
                    <a:pt x="534" y="61"/>
                    <a:pt x="1331" y="47"/>
                    <a:pt x="1611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00520" y="3021120"/>
              <a:ext cx="1892520" cy="825480"/>
            </a:xfrm>
            <a:custGeom>
              <a:avLst/>
              <a:gdLst/>
              <a:ahLst/>
              <a:rect l="l" t="t" r="r" b="b"/>
              <a:pathLst>
                <a:path w="1192" h="520">
                  <a:moveTo>
                    <a:pt x="1061" y="520"/>
                  </a:moveTo>
                  <a:cubicBezTo>
                    <a:pt x="1053" y="457"/>
                    <a:pt x="1192" y="232"/>
                    <a:pt x="1015" y="145"/>
                  </a:cubicBezTo>
                  <a:cubicBezTo>
                    <a:pt x="838" y="58"/>
                    <a:pt x="211" y="30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71500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7467480" y="2438280"/>
            <a:ext cx="1295640" cy="520560"/>
            <a:chOff x="7467480" y="2438280"/>
            <a:chExt cx="1295640" cy="520560"/>
          </a:xfrm>
        </p:grpSpPr>
        <p:sp>
          <p:nvSpPr>
            <p:cNvPr id="423" name=""/>
            <p:cNvSpPr/>
            <p:nvPr/>
          </p:nvSpPr>
          <p:spPr>
            <a:xfrm>
              <a:off x="7467480" y="2514600"/>
              <a:ext cx="381240" cy="380880"/>
            </a:xfrm>
            <a:prstGeom prst="righ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487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</a:rPr>
                <a:t>Y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685800" y="1219320"/>
            <a:ext cx="7775640" cy="2176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CFL.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n, there exist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1 such that: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, x, 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3520" y="3061440"/>
            <a:ext cx="822960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generate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},  so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F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3520" y="4190400"/>
            <a:ext cx="63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l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5440" y="4571280"/>
            <a:ext cx="56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2880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5740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60440" y="5029200"/>
            <a:ext cx="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2000" y="5028480"/>
            <a:ext cx="12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19240" y="5027760"/>
            <a:ext cx="477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60160" y="60188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0560" y="5714280"/>
            <a:ext cx="280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7644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9244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5760" y="54853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73760" y="64220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60" y="6095160"/>
            <a:ext cx="60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10666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context-free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448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456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466" name=""/>
            <p:cNvSpPr/>
            <p:nvPr/>
          </p:nvSpPr>
          <p:spPr>
            <a:xfrm>
              <a:off x="2362320" y="396252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80" y="396252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0020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668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144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7652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43400" y="396252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8128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814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576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57200" y="4267080"/>
            <a:ext cx="3962520" cy="612360"/>
            <a:chOff x="457200" y="4267080"/>
            <a:chExt cx="3962520" cy="612360"/>
          </a:xfrm>
        </p:grpSpPr>
        <p:sp>
          <p:nvSpPr>
            <p:cNvPr id="480" name=""/>
            <p:cNvSpPr/>
            <p:nvPr/>
          </p:nvSpPr>
          <p:spPr>
            <a:xfrm flipV="1" rot="5400000">
              <a:off x="186696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28800" y="4419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 rot="5400000">
              <a:off x="384804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3392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66880" y="43434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57200" y="4419720"/>
            <a:ext cx="3886200" cy="840600"/>
            <a:chOff x="457200" y="4419720"/>
            <a:chExt cx="3886200" cy="840600"/>
          </a:xfrm>
        </p:grpSpPr>
        <p:sp>
          <p:nvSpPr>
            <p:cNvPr id="487" name=""/>
            <p:cNvSpPr/>
            <p:nvPr/>
          </p:nvSpPr>
          <p:spPr>
            <a:xfrm flipV="1" rot="5400000">
              <a:off x="2819160" y="3503880"/>
              <a:ext cx="304920" cy="27432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434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71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002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57200" y="5105520"/>
            <a:ext cx="8381880" cy="1753560"/>
            <a:chOff x="457200" y="5105520"/>
            <a:chExt cx="8381880" cy="1753560"/>
          </a:xfrm>
        </p:grpSpPr>
        <p:sp>
          <p:nvSpPr>
            <p:cNvPr id="493" name=""/>
            <p:cNvSpPr/>
            <p:nvPr/>
          </p:nvSpPr>
          <p:spPr>
            <a:xfrm>
              <a:off x="5105520" y="5105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01000" y="60199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62320" y="571500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57150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0020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68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144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652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43400" y="57150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8128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814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576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8080" y="52578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144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00200" y="52578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0512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19520" y="52578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576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24080" y="61722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8080" y="61722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002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290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14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765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91320" y="61722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434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29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197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623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382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055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814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106668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Based on the pumping lemma for CFL, we often make a proof by contradiction to demonstrate that a language is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a CF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532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783720" y="3962520"/>
            <a:ext cx="7868880" cy="1547640"/>
            <a:chOff x="783720" y="3962520"/>
            <a:chExt cx="7868880" cy="1547640"/>
          </a:xfrm>
        </p:grpSpPr>
        <p:sp>
          <p:nvSpPr>
            <p:cNvPr id="537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3720" y="4298040"/>
              <a:ext cx="78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uvwxy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v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ε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vwx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cs-CZ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, show tha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23680" y="4669200"/>
              <a:ext cx="53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55360" y="5050440"/>
              <a:ext cx="52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545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548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552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86360" y="5942880"/>
              <a:ext cx="2534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a CF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 is 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.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676520"/>
            <a:ext cx="8153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CFL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p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2590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30481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19320" y="396144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a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3314520" y="3619440"/>
            <a:ext cx="152640" cy="190512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5333760" y="3657600"/>
            <a:ext cx="152640" cy="1828800"/>
          </a:xfrm>
          <a:custGeom>
            <a:avLst/>
            <a:gdLst>
              <a:gd name="textAreaLeft" fmla="*/ 0 w 152640"/>
              <a:gd name="textAreaRight" fmla="*/ 5508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 rot="16200000">
            <a:off x="2492280" y="3145680"/>
            <a:ext cx="144360" cy="177624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240"/>
              <a:gd name="textAreaBottom" fmla="*/ 1730160 h 17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62320" y="342828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 rot="16200000">
            <a:off x="4385160" y="3081600"/>
            <a:ext cx="144360" cy="1904760"/>
          </a:xfrm>
          <a:custGeom>
            <a:avLst/>
            <a:gdLst>
              <a:gd name="textAreaLeft" fmla="*/ 0 w 144360"/>
              <a:gd name="textAreaRight" fmla="*/ 52200 w 14436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048120" y="472428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86400" y="47242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5029200"/>
            <a:ext cx="335268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 rot="16200000">
            <a:off x="6225840" y="3145680"/>
            <a:ext cx="144360" cy="177660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600"/>
              <a:gd name="textAreaBottom" fmla="*/ 1730520 h 17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11840" y="5029200"/>
            <a:ext cx="308124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 rot="5400000">
            <a:off x="4381200" y="20192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5400000">
            <a:off x="7543440" y="1371240"/>
            <a:ext cx="152280" cy="1523880"/>
          </a:xfrm>
          <a:custGeom>
            <a:avLst/>
            <a:gdLst>
              <a:gd name="textAreaLeft" fmla="*/ 0 w 152280"/>
              <a:gd name="textAreaRight" fmla="*/ 5508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5638680" y="1066680"/>
            <a:ext cx="152280" cy="213336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69240" y="205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57800" y="2056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478280" y="2056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9480" y="10666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5320" y="23616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90720" y="5958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All these decompositions lead to a contradiction!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09480" y="6338160"/>
            <a:ext cx="7772400" cy="520560"/>
            <a:chOff x="609480" y="6338160"/>
            <a:chExt cx="7772400" cy="520560"/>
          </a:xfrm>
        </p:grpSpPr>
        <p:sp>
          <p:nvSpPr>
            <p:cNvPr id="585" name=""/>
            <p:cNvSpPr/>
            <p:nvPr/>
          </p:nvSpPr>
          <p:spPr>
            <a:xfrm>
              <a:off x="609480" y="6415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9480" y="6338160"/>
              <a:ext cx="555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4)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refore,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is not a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V="1">
            <a:off x="4343400" y="16002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48320" y="1600200"/>
            <a:ext cx="213336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0" y="160020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267080" y="152316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 rot="16200000">
            <a:off x="49528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1065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 rot="16200000">
            <a:off x="63244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 rot="16200000">
            <a:off x="7657920" y="8755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9480" y="15238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5400000">
            <a:off x="3542760" y="28573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5400000">
            <a:off x="6705000" y="22096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5400000">
            <a:off x="4799880" y="21333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21440" y="2894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10000" y="2894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630480" y="2894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505320" y="24382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38480" y="24382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19920" y="24382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3612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3520" y="320040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9480" y="365760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8115120" y="45338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4914720" y="39240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6819840" y="354312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02400" y="457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400800" y="457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078400" y="4570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35812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9360" y="48762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8077320" y="41148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791320" y="4114800"/>
            <a:ext cx="220968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67080" y="4114800"/>
            <a:ext cx="14479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91120" y="403776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 rot="16200000">
            <a:off x="48765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00600" y="3580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 rot="16200000">
            <a:off x="62481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 rot="16200000">
            <a:off x="7581600" y="339012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5400000">
            <a:off x="7200360" y="53719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5400000">
            <a:off x="4114080" y="47242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019200" y="46479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105320" y="540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638680" y="540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2720" y="540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7162920" y="49528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257800" y="49528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29000" y="49528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52680" y="48758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cs-CZ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520" y="563868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0384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properties of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639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CF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as wel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649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652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655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658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omsky Normal Form (C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88240" cy="25311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omsky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e of these fo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809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2670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Chomsky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6386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Algorithm: CFG for Concaten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480" y="1066680"/>
            <a:ext cx="853452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213372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It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CFLs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9480" y="2666880"/>
            <a:ext cx="815364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CFG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uct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using the previous thre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CFG denotes CFL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9480" y="23612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9480" y="2819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section of some CFLs is not a CF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9480" y="35053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39625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4419720"/>
            <a:ext cx="777240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is not a CF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proof based on the pumping lemm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162920" y="4952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9480" y="2361240"/>
            <a:ext cx="43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 by contradi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2760840"/>
            <a:ext cx="86868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family of CFLs is closed 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ar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the family of CFLs is closed under un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ssum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ies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F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radi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663560" y="48261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34960" y="4406760"/>
            <a:ext cx="38124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01800" y="48261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901800" y="4406760"/>
            <a:ext cx="3808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88840" y="52959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50960" y="52959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88840" y="5232240"/>
            <a:ext cx="11430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1295280"/>
            <a:ext cx="82296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8153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Chomsk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normal form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2819520"/>
            <a:ext cx="815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where 1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: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 general parsing method based on 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8580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" y="572832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" y="51044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685800" y="1981080"/>
            <a:ext cx="7772400" cy="1295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9051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9480" y="32004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accessible 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from CF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 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, 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s the start nontermin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948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9480" y="411480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09480" y="5105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09480" y="5486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S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94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9480" y="6248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8580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" y="15238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9480" y="289548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 nonterminating symbo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1066680"/>
            <a:ext cx="883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rives a terminal st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480" y="4572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9480" y="403848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09480" y="495288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9480" y="533412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n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9480" y="5715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6095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reibach Normal Form (G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219320"/>
            <a:ext cx="7788240" cy="204372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reibac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is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3526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809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Greibach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1814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card(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44186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Un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2438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85800" y="1295280"/>
            <a:ext cx="82296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1. Equivalence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CFG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85800" y="2438280"/>
            <a:ext cx="79246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2. Ambiguity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mbiguous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3505320"/>
            <a:ext cx="7772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 is mathematically proved that there exists no algorithm, which solve these problems in finite time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a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ve Pow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of N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al Form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1430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msky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5909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48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2767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2004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ibach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6483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7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18148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in proper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NF and GN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638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C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G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l Pars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0"/>
            <a:ext cx="6476760" cy="190512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438280"/>
            <a:ext cx="5029200" cy="15368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2743200"/>
            <a:ext cx="2971800" cy="1044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267080"/>
            <a:ext cx="23623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94920" y="35812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3048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3429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3200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4267080"/>
            <a:ext cx="19051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F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4267080"/>
            <a:ext cx="228600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562360" y="3733920"/>
            <a:ext cx="152280" cy="533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3581280"/>
            <a:ext cx="1526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3505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715000"/>
            <a:ext cx="7620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anguages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family of a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0512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143000"/>
            <a:ext cx="8001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eral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rsing method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GP) are applicable to all context-free languages (CFL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L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5029200"/>
            <a:ext cx="2666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nera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0" y="6095880"/>
            <a:ext cx="5943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P Based on C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homsky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al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95360" y="5943600"/>
            <a:ext cx="482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7152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00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81760" y="59436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3960" y="597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02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25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1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82520" y="4952880"/>
            <a:ext cx="6532200" cy="459720"/>
            <a:chOff x="1982520" y="4952880"/>
            <a:chExt cx="6532200" cy="459720"/>
          </a:xfrm>
        </p:grpSpPr>
        <p:sp>
          <p:nvSpPr>
            <p:cNvPr id="111" name=""/>
            <p:cNvSpPr/>
            <p:nvPr/>
          </p:nvSpPr>
          <p:spPr>
            <a:xfrm>
              <a:off x="1982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904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1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3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9640" y="4952880"/>
              <a:ext cx="10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514600" y="5334120"/>
            <a:ext cx="5486400" cy="761760"/>
            <a:chOff x="2514600" y="5334120"/>
            <a:chExt cx="5486400" cy="761760"/>
          </a:xfrm>
        </p:grpSpPr>
        <p:sp>
          <p:nvSpPr>
            <p:cNvPr id="116" name=""/>
            <p:cNvSpPr/>
            <p:nvPr/>
          </p:nvSpPr>
          <p:spPr>
            <a:xfrm flipV="1">
              <a:off x="2514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19112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943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001000" y="5334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687120" y="33526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96400" y="19810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0120" y="12193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1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219320"/>
            <a:ext cx="3047760" cy="823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[1,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78480" y="174924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562720" y="175212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8906600">
            <a:off x="4148640" y="1964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758800">
            <a:off x="5871240" y="1955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1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6360" y="6068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438280" y="4217760"/>
            <a:ext cx="1981440" cy="811080"/>
            <a:chOff x="2438280" y="4217760"/>
            <a:chExt cx="1981440" cy="811080"/>
          </a:xfrm>
        </p:grpSpPr>
        <p:sp>
          <p:nvSpPr>
            <p:cNvPr id="131" name=""/>
            <p:cNvSpPr/>
            <p:nvPr/>
          </p:nvSpPr>
          <p:spPr>
            <a:xfrm flipV="1">
              <a:off x="2438280" y="4217760"/>
              <a:ext cx="582840" cy="7347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351240" y="4217760"/>
              <a:ext cx="1068480" cy="81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114800" y="4294080"/>
            <a:ext cx="2057040" cy="735120"/>
            <a:chOff x="4114800" y="4294080"/>
            <a:chExt cx="2057040" cy="735120"/>
          </a:xfrm>
        </p:grpSpPr>
        <p:sp>
          <p:nvSpPr>
            <p:cNvPr id="134" name=""/>
            <p:cNvSpPr/>
            <p:nvPr/>
          </p:nvSpPr>
          <p:spPr>
            <a:xfrm flipV="1">
              <a:off x="4114800" y="4294080"/>
              <a:ext cx="98892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5331960" y="4294080"/>
              <a:ext cx="83988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25480" y="3859200"/>
            <a:ext cx="5305320" cy="486720"/>
            <a:chOff x="2625480" y="3859200"/>
            <a:chExt cx="5305320" cy="486720"/>
          </a:xfrm>
        </p:grpSpPr>
        <p:sp>
          <p:nvSpPr>
            <p:cNvPr id="137" name=""/>
            <p:cNvSpPr/>
            <p:nvPr/>
          </p:nvSpPr>
          <p:spPr>
            <a:xfrm>
              <a:off x="617220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25480" y="3859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9760" y="3886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30840" y="3886200"/>
              <a:ext cx="12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06760" y="2819520"/>
            <a:ext cx="3738240" cy="459720"/>
            <a:chOff x="3506760" y="2819520"/>
            <a:chExt cx="3738240" cy="459720"/>
          </a:xfrm>
        </p:grpSpPr>
        <p:sp>
          <p:nvSpPr>
            <p:cNvPr id="142" name=""/>
            <p:cNvSpPr/>
            <p:nvPr/>
          </p:nvSpPr>
          <p:spPr>
            <a:xfrm>
              <a:off x="3506760" y="281952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64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5400" y="2819520"/>
              <a:ext cx="129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371600" y="4952880"/>
            <a:ext cx="762120" cy="685800"/>
            <a:chOff x="1371600" y="4952880"/>
            <a:chExt cx="762120" cy="685800"/>
          </a:xfrm>
        </p:grpSpPr>
        <p:sp>
          <p:nvSpPr>
            <p:cNvPr id="146" name=""/>
            <p:cNvSpPr/>
            <p:nvPr/>
          </p:nvSpPr>
          <p:spPr>
            <a:xfrm>
              <a:off x="1371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71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048120" y="4952880"/>
            <a:ext cx="761760" cy="685800"/>
            <a:chOff x="3048120" y="4952880"/>
            <a:chExt cx="761760" cy="685800"/>
          </a:xfrm>
        </p:grpSpPr>
        <p:sp>
          <p:nvSpPr>
            <p:cNvPr id="149" name=""/>
            <p:cNvSpPr/>
            <p:nvPr/>
          </p:nvSpPr>
          <p:spPr>
            <a:xfrm>
              <a:off x="3048120" y="4952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8120" y="5410080"/>
              <a:ext cx="30456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00600" y="4952880"/>
            <a:ext cx="762120" cy="685800"/>
            <a:chOff x="4800600" y="4952880"/>
            <a:chExt cx="762120" cy="685800"/>
          </a:xfrm>
        </p:grpSpPr>
        <p:sp>
          <p:nvSpPr>
            <p:cNvPr id="152" name=""/>
            <p:cNvSpPr/>
            <p:nvPr/>
          </p:nvSpPr>
          <p:spPr>
            <a:xfrm>
              <a:off x="4800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00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038480" y="3733560"/>
            <a:ext cx="762120" cy="612360"/>
            <a:chOff x="4038480" y="3733560"/>
            <a:chExt cx="762120" cy="612360"/>
          </a:xfrm>
        </p:grpSpPr>
        <p:sp>
          <p:nvSpPr>
            <p:cNvPr id="155" name=""/>
            <p:cNvSpPr/>
            <p:nvPr/>
          </p:nvSpPr>
          <p:spPr>
            <a:xfrm>
              <a:off x="4038480" y="3886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114800" y="373320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90920" y="2666520"/>
            <a:ext cx="1143000" cy="612720"/>
            <a:chOff x="2590920" y="2666520"/>
            <a:chExt cx="1143000" cy="612720"/>
          </a:xfrm>
        </p:grpSpPr>
        <p:sp>
          <p:nvSpPr>
            <p:cNvPr id="158" name=""/>
            <p:cNvSpPr/>
            <p:nvPr/>
          </p:nvSpPr>
          <p:spPr>
            <a:xfrm>
              <a:off x="2590920" y="2819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, G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971800" y="266616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858680" y="3276720"/>
            <a:ext cx="12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057400" y="3657240"/>
            <a:ext cx="762120" cy="612360"/>
            <a:chOff x="2057400" y="3657240"/>
            <a:chExt cx="762120" cy="612360"/>
          </a:xfrm>
        </p:grpSpPr>
        <p:sp>
          <p:nvSpPr>
            <p:cNvPr id="162" name=""/>
            <p:cNvSpPr/>
            <p:nvPr/>
          </p:nvSpPr>
          <p:spPr>
            <a:xfrm>
              <a:off x="2057400" y="3809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133720" y="36568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697120" y="2286000"/>
            <a:ext cx="12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48120" y="3124080"/>
            <a:ext cx="3108240" cy="1916280"/>
            <a:chOff x="3048120" y="3124080"/>
            <a:chExt cx="3108240" cy="1916280"/>
          </a:xfrm>
        </p:grpSpPr>
        <p:sp>
          <p:nvSpPr>
            <p:cNvPr id="166" name=""/>
            <p:cNvSpPr/>
            <p:nvPr/>
          </p:nvSpPr>
          <p:spPr>
            <a:xfrm>
              <a:off x="4330800" y="3124080"/>
              <a:ext cx="1825560" cy="1916280"/>
            </a:xfrm>
            <a:custGeom>
              <a:avLst/>
              <a:gdLst/>
              <a:ahLst/>
              <a:rect l="l" t="t" r="r" b="b"/>
              <a:pathLst>
                <a:path w="1150" h="1207">
                  <a:moveTo>
                    <a:pt x="1150" y="1207"/>
                  </a:moveTo>
                  <a:cubicBezTo>
                    <a:pt x="1102" y="1077"/>
                    <a:pt x="1054" y="625"/>
                    <a:pt x="862" y="424"/>
                  </a:cubicBezTo>
                  <a:cubicBezTo>
                    <a:pt x="670" y="223"/>
                    <a:pt x="180" y="88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8120" y="3213000"/>
              <a:ext cx="838080" cy="736560"/>
            </a:xfrm>
            <a:custGeom>
              <a:avLst/>
              <a:gdLst/>
              <a:ahLst/>
              <a:rect l="l" t="t" r="r" b="b"/>
              <a:pathLst>
                <a:path w="528" h="464">
                  <a:moveTo>
                    <a:pt x="0" y="464"/>
                  </a:moveTo>
                  <a:cubicBezTo>
                    <a:pt x="25" y="428"/>
                    <a:pt x="62" y="321"/>
                    <a:pt x="150" y="244"/>
                  </a:cubicBezTo>
                  <a:cubicBezTo>
                    <a:pt x="238" y="167"/>
                    <a:pt x="449" y="51"/>
                    <a:pt x="528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374920" y="3124080"/>
            <a:ext cx="2959200" cy="1916280"/>
            <a:chOff x="2374920" y="3124080"/>
            <a:chExt cx="2959200" cy="1916280"/>
          </a:xfrm>
        </p:grpSpPr>
        <p:sp>
          <p:nvSpPr>
            <p:cNvPr id="169" name=""/>
            <p:cNvSpPr/>
            <p:nvPr/>
          </p:nvSpPr>
          <p:spPr>
            <a:xfrm>
              <a:off x="4241880" y="3213000"/>
              <a:ext cx="1092240" cy="749520"/>
            </a:xfrm>
            <a:custGeom>
              <a:avLst/>
              <a:gdLst/>
              <a:ahLst/>
              <a:rect l="l" t="t" r="r" b="b"/>
              <a:pathLst>
                <a:path w="688" h="472">
                  <a:moveTo>
                    <a:pt x="688" y="472"/>
                  </a:moveTo>
                  <a:cubicBezTo>
                    <a:pt x="651" y="428"/>
                    <a:pt x="579" y="287"/>
                    <a:pt x="464" y="208"/>
                  </a:cubicBezTo>
                  <a:cubicBezTo>
                    <a:pt x="349" y="129"/>
                    <a:pt x="97" y="43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74920" y="3124080"/>
              <a:ext cx="1511280" cy="1916280"/>
            </a:xfrm>
            <a:custGeom>
              <a:avLst/>
              <a:gdLst/>
              <a:ahLst/>
              <a:rect l="l" t="t" r="r" b="b"/>
              <a:pathLst>
                <a:path w="997" h="1111">
                  <a:moveTo>
                    <a:pt x="0" y="1111"/>
                  </a:moveTo>
                  <a:cubicBezTo>
                    <a:pt x="48" y="986"/>
                    <a:pt x="122" y="545"/>
                    <a:pt x="288" y="360"/>
                  </a:cubicBezTo>
                  <a:cubicBezTo>
                    <a:pt x="454" y="175"/>
                    <a:pt x="849" y="75"/>
                    <a:pt x="997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GP Based on 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066680"/>
            <a:ext cx="8229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CNF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362320"/>
            <a:ext cx="769608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: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 c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dd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9584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066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819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8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24480" y="5562720"/>
            <a:ext cx="8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95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248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77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00100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3016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800600" y="40384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2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14400" y="4876920"/>
            <a:ext cx="1981080" cy="380880"/>
            <a:chOff x="914400" y="4876920"/>
            <a:chExt cx="1981080" cy="380880"/>
          </a:xfrm>
        </p:grpSpPr>
        <p:sp>
          <p:nvSpPr>
            <p:cNvPr id="237" name=""/>
            <p:cNvSpPr/>
            <p:nvPr/>
          </p:nvSpPr>
          <p:spPr>
            <a:xfrm flipV="1">
              <a:off x="914400" y="4876920"/>
              <a:ext cx="83808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1981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90920" y="4876920"/>
            <a:ext cx="1981080" cy="380880"/>
            <a:chOff x="2590920" y="4876920"/>
            <a:chExt cx="1981080" cy="380880"/>
          </a:xfrm>
        </p:grpSpPr>
        <p:sp>
          <p:nvSpPr>
            <p:cNvPr id="240" name=""/>
            <p:cNvSpPr/>
            <p:nvPr/>
          </p:nvSpPr>
          <p:spPr>
            <a:xfrm flipV="1">
              <a:off x="2590920" y="4876920"/>
              <a:ext cx="91440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3733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267080" y="4876920"/>
            <a:ext cx="2057400" cy="380880"/>
            <a:chOff x="4267080" y="4876920"/>
            <a:chExt cx="2057400" cy="380880"/>
          </a:xfrm>
        </p:grpSpPr>
        <p:sp>
          <p:nvSpPr>
            <p:cNvPr id="243" name=""/>
            <p:cNvSpPr/>
            <p:nvPr/>
          </p:nvSpPr>
          <p:spPr>
            <a:xfrm flipV="1">
              <a:off x="4267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5410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019920" y="4876920"/>
            <a:ext cx="2057400" cy="380880"/>
            <a:chOff x="6019920" y="4876920"/>
            <a:chExt cx="2057400" cy="380880"/>
          </a:xfrm>
        </p:grpSpPr>
        <p:sp>
          <p:nvSpPr>
            <p:cNvPr id="246" name=""/>
            <p:cNvSpPr/>
            <p:nvPr/>
          </p:nvSpPr>
          <p:spPr>
            <a:xfrm flipV="1">
              <a:off x="6019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7086600" y="4876920"/>
              <a:ext cx="99072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4479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2940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67652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58128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5800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4:47Z</dcterms:modified>
  <cp:revision>191</cp:revision>
  <dc:subject/>
  <dc:title>Normal Forms and Properties of CFLs</dc:title>
</cp:coreProperties>
</file>