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7FF-93BD-4842-8C05-B74DEF24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CFD-67EE-41EC-AB0C-0FE24AD0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9A1-1F50-4ADB-AB1C-9E4A8D46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B8C-25D5-4D01-8429-35401612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F83-CDEA-4E65-84A3-D5D81ADD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16D-7583-46D7-9C2F-2DEBCD52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BB2-6B7F-4CDF-8978-2DEF9A0E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FAF-780B-4A8D-A292-7404D521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5F3-46C0-4A45-86C9-A9ADF87E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034-87F1-4440-B6A4-46B57AA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1BF-B029-4497-A099-4F2B3D33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B10-B3CD-4FF5-9FBE-ED810259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DE2D-B1CB-454A-946C-C6276E422BD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3:27Z</dcterms:modified>
  <cp:revision>268</cp:revision>
  <dc:subject/>
  <dc:title>Top-Down Parsing</dc:title>
</cp:coreProperties>
</file>