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477-CDEC-4A6D-B218-2F7A5F86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E1A-F0DC-49A4-8150-DA433721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90C-380B-4A44-B40E-DF0CB757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F0B-3C7B-4740-ADC5-3894D5F9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B51-7897-4560-AFAD-2F81CE44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4C3-D6F0-439E-8B29-F06A3385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7C6-6147-4F2C-BC24-1034C798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73B-F33B-4EE6-A9D4-C7B344D0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1A6-4A2C-469B-AAF8-F154A21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475-D36F-4F9E-8634-612CAB75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1BF-D65F-4CB2-B6CC-1F8997B7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511-34FE-4822-88CC-56316805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B7C3-134E-46A1-8478-6B33C764541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57:10Z</dcterms:modified>
  <cp:revision>125</cp:revision>
  <dc:subject/>
  <dc:title>Introduction to Compilers</dc:title>
</cp:coreProperties>
</file>