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29F9-F8F9-4797-813A-79EC7317F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5B75-C974-4520-8B4B-39775445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7FB4-8243-48D8-8DFD-7F84DE472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19EB-1603-44E5-9C35-FF7DE445B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16F8-DB99-4C83-8CF0-E30CC33F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2A62-CCB4-4B33-9ECF-87369D3A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04E3-BCD6-48C4-8111-27FE04BA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539A-D5B3-4CCA-ADB4-401B7416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E4FD-D259-49E2-95B3-CD0FCFB7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8451-FB1F-4E11-B02A-90678064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701D-E96B-40EC-A535-51C925E0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9C22-1B36-4D30-8B5D-5ACD4DED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049A-941E-4E87-BB8E-A125060DE39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198072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ultigenerative Grammar Systems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(MGS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5638680" y="4724280"/>
            <a:ext cx="2210040" cy="977760"/>
            <a:chOff x="5638680" y="4724280"/>
            <a:chExt cx="2210040" cy="977760"/>
          </a:xfrm>
        </p:grpSpPr>
        <p:sp>
          <p:nvSpPr>
            <p:cNvPr id="301" name=""/>
            <p:cNvSpPr/>
            <p:nvPr/>
          </p:nvSpPr>
          <p:spPr>
            <a:xfrm>
              <a:off x="739152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3868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6095520" y="5181120"/>
              <a:ext cx="1296000" cy="520920"/>
              <a:chOff x="6095520" y="5181120"/>
              <a:chExt cx="1296000" cy="520920"/>
            </a:xfrm>
          </p:grpSpPr>
          <p:sp>
            <p:nvSpPr>
              <p:cNvPr id="304" name=""/>
              <p:cNvSpPr/>
              <p:nvPr/>
            </p:nvSpPr>
            <p:spPr>
              <a:xfrm>
                <a:off x="6324480" y="5181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flipV="1">
                <a:off x="60955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71629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5638680" y="3581280"/>
            <a:ext cx="2210040" cy="977760"/>
            <a:chOff x="5638680" y="3581280"/>
            <a:chExt cx="2210040" cy="977760"/>
          </a:xfrm>
        </p:grpSpPr>
        <p:sp>
          <p:nvSpPr>
            <p:cNvPr id="308" name="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3868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095520" y="4038120"/>
              <a:ext cx="1296000" cy="520920"/>
              <a:chOff x="6095520" y="4038120"/>
              <a:chExt cx="1296000" cy="520920"/>
            </a:xfrm>
          </p:grpSpPr>
          <p:sp>
            <p:nvSpPr>
              <p:cNvPr id="311" name=""/>
              <p:cNvSpPr/>
              <p:nvPr/>
            </p:nvSpPr>
            <p:spPr>
              <a:xfrm>
                <a:off x="6324480" y="4038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60955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71629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"/>
          <p:cNvGrpSpPr/>
          <p:nvPr/>
        </p:nvGrpSpPr>
        <p:grpSpPr>
          <a:xfrm>
            <a:off x="5638680" y="2438280"/>
            <a:ext cx="2210040" cy="977760"/>
            <a:chOff x="5638680" y="2438280"/>
            <a:chExt cx="2210040" cy="977760"/>
          </a:xfrm>
        </p:grpSpPr>
        <p:sp>
          <p:nvSpPr>
            <p:cNvPr id="315" name=""/>
            <p:cNvSpPr/>
            <p:nvPr/>
          </p:nvSpPr>
          <p:spPr>
            <a:xfrm>
              <a:off x="739152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3868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6095520" y="2895120"/>
              <a:ext cx="1296000" cy="520920"/>
              <a:chOff x="6095520" y="2895120"/>
              <a:chExt cx="1296000" cy="520920"/>
            </a:xfrm>
          </p:grpSpPr>
          <p:sp>
            <p:nvSpPr>
              <p:cNvPr id="318" name=""/>
              <p:cNvSpPr/>
              <p:nvPr/>
            </p:nvSpPr>
            <p:spPr>
              <a:xfrm>
                <a:off x="6324480" y="2895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60955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71629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5638680" y="1295280"/>
            <a:ext cx="2210040" cy="977760"/>
            <a:chOff x="5638680" y="1295280"/>
            <a:chExt cx="2210040" cy="977760"/>
          </a:xfrm>
        </p:grpSpPr>
        <p:sp>
          <p:nvSpPr>
            <p:cNvPr id="322" name=""/>
            <p:cNvSpPr/>
            <p:nvPr/>
          </p:nvSpPr>
          <p:spPr>
            <a:xfrm>
              <a:off x="739152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3868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6095520" y="1752120"/>
              <a:ext cx="1296000" cy="520920"/>
              <a:chOff x="6095520" y="1752120"/>
              <a:chExt cx="1296000" cy="520920"/>
            </a:xfrm>
          </p:grpSpPr>
          <p:sp>
            <p:nvSpPr>
              <p:cNvPr id="325" name=""/>
              <p:cNvSpPr/>
              <p:nvPr/>
            </p:nvSpPr>
            <p:spPr>
              <a:xfrm>
                <a:off x="6324480" y="1752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60955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71629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8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62720" y="1219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334120" y="1828800"/>
            <a:ext cx="3200400" cy="1182240"/>
            <a:chOff x="5334120" y="1828800"/>
            <a:chExt cx="3200400" cy="1182240"/>
          </a:xfrm>
        </p:grpSpPr>
        <p:sp>
          <p:nvSpPr>
            <p:cNvPr id="336" name=""/>
            <p:cNvSpPr/>
            <p:nvPr/>
          </p:nvSpPr>
          <p:spPr>
            <a:xfrm rot="5400000">
              <a:off x="565416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74062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34120" y="2362320"/>
              <a:ext cx="3200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5105520" y="2971800"/>
            <a:ext cx="3504960" cy="1182240"/>
            <a:chOff x="5105520" y="2971800"/>
            <a:chExt cx="3504960" cy="1182240"/>
          </a:xfrm>
        </p:grpSpPr>
        <p:sp>
          <p:nvSpPr>
            <p:cNvPr id="340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5400000">
              <a:off x="74062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05520" y="3505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876920" y="4114800"/>
            <a:ext cx="3504960" cy="1182240"/>
            <a:chOff x="4876920" y="4114800"/>
            <a:chExt cx="3504960" cy="1182240"/>
          </a:xfrm>
        </p:grpSpPr>
        <p:sp>
          <p:nvSpPr>
            <p:cNvPr id="344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5400000">
              <a:off x="74062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76920" y="4648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181480" y="5257800"/>
            <a:ext cx="3505320" cy="1182240"/>
            <a:chOff x="5181480" y="5257800"/>
            <a:chExt cx="3505320" cy="1182240"/>
          </a:xfrm>
        </p:grpSpPr>
        <p:sp>
          <p:nvSpPr>
            <p:cNvPr id="348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5400000">
              <a:off x="74062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81480" y="57913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bc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n-multigenerative rule-synchronized grammar syste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4299120"/>
            <a:ext cx="83059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4191120"/>
            <a:ext cx="3962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397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105520" y="4191120"/>
            <a:ext cx="4038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25909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2193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" y="1219320"/>
            <a:ext cx="8077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R is defined analogically as the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Multistrings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&amp; 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259092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anguage generated by n-MGR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e, 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is defined analogically as a language generated by n-MGN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5943600" y="5257800"/>
            <a:ext cx="2057400" cy="977760"/>
            <a:chOff x="5943600" y="5257800"/>
            <a:chExt cx="2057400" cy="977760"/>
          </a:xfrm>
        </p:grpSpPr>
        <p:sp>
          <p:nvSpPr>
            <p:cNvPr id="461" name=""/>
            <p:cNvSpPr/>
            <p:nvPr/>
          </p:nvSpPr>
          <p:spPr>
            <a:xfrm>
              <a:off x="75438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9436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6324120" y="5714640"/>
              <a:ext cx="1296000" cy="520920"/>
              <a:chOff x="6324120" y="5714640"/>
              <a:chExt cx="1296000" cy="520920"/>
            </a:xfrm>
          </p:grpSpPr>
          <p:sp>
            <p:nvSpPr>
              <p:cNvPr id="464" name=""/>
              <p:cNvSpPr/>
              <p:nvPr/>
            </p:nvSpPr>
            <p:spPr>
              <a:xfrm>
                <a:off x="6553080" y="5715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 flipV="1">
                <a:off x="63241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73915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7" name=""/>
          <p:cNvGrpSpPr/>
          <p:nvPr/>
        </p:nvGrpSpPr>
        <p:grpSpPr>
          <a:xfrm>
            <a:off x="5943600" y="4114800"/>
            <a:ext cx="2057400" cy="977760"/>
            <a:chOff x="5943600" y="4114800"/>
            <a:chExt cx="2057400" cy="977760"/>
          </a:xfrm>
        </p:grpSpPr>
        <p:sp>
          <p:nvSpPr>
            <p:cNvPr id="468" name=""/>
            <p:cNvSpPr/>
            <p:nvPr/>
          </p:nvSpPr>
          <p:spPr>
            <a:xfrm>
              <a:off x="75438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436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6324120" y="4571640"/>
              <a:ext cx="1296000" cy="520920"/>
              <a:chOff x="6324120" y="4571640"/>
              <a:chExt cx="1296000" cy="520920"/>
            </a:xfrm>
          </p:grpSpPr>
          <p:sp>
            <p:nvSpPr>
              <p:cNvPr id="471" name=""/>
              <p:cNvSpPr/>
              <p:nvPr/>
            </p:nvSpPr>
            <p:spPr>
              <a:xfrm>
                <a:off x="6553080" y="4572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 flipV="1">
                <a:off x="63241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73915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5943600" y="1828800"/>
            <a:ext cx="2057400" cy="977760"/>
            <a:chOff x="5943600" y="1828800"/>
            <a:chExt cx="2057400" cy="977760"/>
          </a:xfrm>
        </p:grpSpPr>
        <p:sp>
          <p:nvSpPr>
            <p:cNvPr id="475" name=""/>
            <p:cNvSpPr/>
            <p:nvPr/>
          </p:nvSpPr>
          <p:spPr>
            <a:xfrm>
              <a:off x="75438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436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324120" y="2285640"/>
              <a:ext cx="1296000" cy="520920"/>
              <a:chOff x="6324120" y="2285640"/>
              <a:chExt cx="1296000" cy="520920"/>
            </a:xfrm>
          </p:grpSpPr>
          <p:sp>
            <p:nvSpPr>
              <p:cNvPr id="478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flipV="1">
                <a:off x="63241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73915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5943600" y="2971800"/>
            <a:ext cx="2057400" cy="977760"/>
            <a:chOff x="5943600" y="2971800"/>
            <a:chExt cx="2057400" cy="977760"/>
          </a:xfrm>
        </p:grpSpPr>
        <p:sp>
          <p:nvSpPr>
            <p:cNvPr id="482" name=""/>
            <p:cNvSpPr/>
            <p:nvPr/>
          </p:nvSpPr>
          <p:spPr>
            <a:xfrm>
              <a:off x="59436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438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6324120" y="3428640"/>
              <a:ext cx="1296000" cy="520920"/>
              <a:chOff x="6324120" y="3428640"/>
              <a:chExt cx="1296000" cy="520920"/>
            </a:xfrm>
          </p:grpSpPr>
          <p:sp>
            <p:nvSpPr>
              <p:cNvPr id="485" name=""/>
              <p:cNvSpPr/>
              <p:nvPr/>
            </p:nvSpPr>
            <p:spPr>
              <a:xfrm>
                <a:off x="6553080" y="3429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flipV="1">
                <a:off x="63241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73915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8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62720" y="1219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34120" y="23623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05520" y="35053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76920" y="4648320"/>
            <a:ext cx="396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81480" y="579132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560920" y="5257800"/>
            <a:ext cx="2928600" cy="609480"/>
            <a:chOff x="5560920" y="5257800"/>
            <a:chExt cx="2928600" cy="609480"/>
          </a:xfrm>
        </p:grpSpPr>
        <p:sp>
          <p:nvSpPr>
            <p:cNvPr id="500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5400000">
              <a:off x="7863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199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201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5560920" y="4114800"/>
            <a:ext cx="2928600" cy="609480"/>
            <a:chOff x="5560920" y="4114800"/>
            <a:chExt cx="2928600" cy="609480"/>
          </a:xfrm>
        </p:grpSpPr>
        <p:sp>
          <p:nvSpPr>
            <p:cNvPr id="505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5400000">
              <a:off x="7863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199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201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560920" y="1828800"/>
            <a:ext cx="2928600" cy="609480"/>
            <a:chOff x="5560920" y="1828800"/>
            <a:chExt cx="2928600" cy="609480"/>
          </a:xfrm>
        </p:grpSpPr>
        <p:sp>
          <p:nvSpPr>
            <p:cNvPr id="510" name=""/>
            <p:cNvSpPr/>
            <p:nvPr/>
          </p:nvSpPr>
          <p:spPr>
            <a:xfrm rot="5400000">
              <a:off x="5577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5400000">
              <a:off x="7863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199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560920" y="2971800"/>
            <a:ext cx="2928600" cy="609480"/>
            <a:chOff x="5560920" y="2971800"/>
            <a:chExt cx="2928600" cy="609480"/>
          </a:xfrm>
        </p:grpSpPr>
        <p:sp>
          <p:nvSpPr>
            <p:cNvPr id="515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5400000">
              <a:off x="7863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01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199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Conversions Between MG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N to equivalent n-MGR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8954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 equivalent n-MGN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042920" y="5257800"/>
            <a:ext cx="291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257800" y="5257800"/>
            <a:ext cx="30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86200" y="54100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886200" y="58672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6019920"/>
            <a:ext cx="220968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962520" y="5562720"/>
            <a:ext cx="3312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59280" y="5805360"/>
            <a:ext cx="25146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96000" y="5805360"/>
            <a:ext cx="259092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1981080" y="54100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1143000"/>
            <a:ext cx="7772400" cy="30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N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R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denote the language families defined by n-MGN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and n-MGR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RE) =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R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N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-MGNs and n-MG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1280" y="1125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only the leftmost derivation in 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95120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84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415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987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9415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987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960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036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940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36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940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44688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48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4376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894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4376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894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7528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5324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9896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5324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896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1569960" y="2736000"/>
            <a:ext cx="1295640" cy="838440"/>
          </a:xfrm>
          <a:custGeom>
            <a:avLst/>
            <a:gdLst>
              <a:gd name="textAreaLeft" fmla="*/ 325440 w 1295640"/>
              <a:gd name="textAreaRight" fmla="*/ 970200 w 129564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69960" y="365112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83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50292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0820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271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4843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271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843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798560" y="2965320"/>
            <a:ext cx="83844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3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55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112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555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12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415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398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559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398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559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5599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13410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7892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24576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7036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066000" y="2736000"/>
            <a:ext cx="1295280" cy="838440"/>
          </a:xfrm>
          <a:custGeom>
            <a:avLst/>
            <a:gdLst>
              <a:gd name="textAreaLeft" fmla="*/ 325440 w 1295280"/>
              <a:gd name="textAreaRight" fmla="*/ 969840 w 129528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66000" y="365112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694400" y="2736720"/>
            <a:ext cx="1676160" cy="838440"/>
          </a:xfrm>
          <a:prstGeom prst="parallelogram">
            <a:avLst>
              <a:gd name="adj" fmla="val 4637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49986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0388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5232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9804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232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804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294600" y="2965320"/>
            <a:ext cx="83808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944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1516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608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516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608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4376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894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520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94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3520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05564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5837400" y="2813040"/>
            <a:ext cx="304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7742160" y="2889360"/>
            <a:ext cx="60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1993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60880" y="2736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16200000">
            <a:off x="111816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04292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rot="16200000">
            <a:off x="2091240" y="1734120"/>
            <a:ext cx="216000" cy="576360"/>
          </a:xfrm>
          <a:custGeom>
            <a:avLst/>
            <a:gdLst>
              <a:gd name="textAreaLeft" fmla="*/ 0 w 216000"/>
              <a:gd name="textAreaRight" fmla="*/ 7812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97964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rot="16200000">
            <a:off x="306288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987640" y="148428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16200000">
            <a:off x="5616360" y="1447560"/>
            <a:ext cx="216000" cy="129564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50872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16200000">
            <a:off x="6555600" y="1805400"/>
            <a:ext cx="215640" cy="576360"/>
          </a:xfrm>
          <a:custGeom>
            <a:avLst/>
            <a:gdLst>
              <a:gd name="textAreaLeft" fmla="*/ 0 w 215640"/>
              <a:gd name="textAreaRight" fmla="*/ 77760 w 21564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4364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rot="16200000">
            <a:off x="7523640" y="141192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272360" y="155736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879560" y="558972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413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702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3274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8702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3274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0796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965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223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965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4223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75240" y="5589720"/>
            <a:ext cx="53532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877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659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823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659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823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00364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4608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180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4608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9180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rot="16200000">
            <a:off x="104364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16200000">
            <a:off x="29865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1636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rot="16200000">
            <a:off x="5545080" y="4834080"/>
            <a:ext cx="216000" cy="129528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rot="16200000">
            <a:off x="74523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55640" y="4221000"/>
            <a:ext cx="763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7164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27236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43564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40360" y="54468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3528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30072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11280" y="4221000"/>
            <a:ext cx="853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general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derivation in </a:t>
            </a:r>
            <a:r>
              <a:rPr b="1" lang="en-US" sz="2300" spc="-1" strike="noStrike" u="sng">
                <a:solidFill>
                  <a:srgbClr val="3333cc"/>
                </a:solidFill>
                <a:uFillTx/>
                <a:latin typeface="Times New Roman"/>
              </a:rPr>
              <a:t>Genaral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Grammar To M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120" y="1066680"/>
            <a:ext cx="447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rammar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09680"/>
            <a:ext cx="800100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system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a set of rules, which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ec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gene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6019920"/>
            <a:ext cx="7696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nerated multistring i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8098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2670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525780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38862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43434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alell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31840" y="5232240"/>
            <a:ext cx="330480" cy="254160"/>
          </a:xfrm>
          <a:custGeom>
            <a:avLst/>
            <a:gdLst/>
            <a:ahLst/>
            <a:rect l="l" t="t" r="r" b="b"/>
            <a:pathLst>
              <a:path w="208" h="160">
                <a:moveTo>
                  <a:pt x="0" y="160"/>
                </a:moveTo>
                <a:cubicBezTo>
                  <a:pt x="7" y="142"/>
                  <a:pt x="5" y="75"/>
                  <a:pt x="40" y="48"/>
                </a:cubicBezTo>
                <a:cubicBezTo>
                  <a:pt x="75" y="21"/>
                  <a:pt x="173" y="10"/>
                  <a:pt x="208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05120" y="4723560"/>
            <a:ext cx="457200" cy="2286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32" y="288"/>
                </a:moveTo>
                <a:cubicBezTo>
                  <a:pt x="16" y="216"/>
                  <a:pt x="0" y="144"/>
                  <a:pt x="32" y="96"/>
                </a:cubicBezTo>
                <a:cubicBezTo>
                  <a:pt x="64" y="48"/>
                  <a:pt x="192" y="16"/>
                  <a:pt x="22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30520" y="4267080"/>
            <a:ext cx="618840" cy="851040"/>
          </a:xfrm>
          <a:custGeom>
            <a:avLst/>
            <a:gdLst/>
            <a:ahLst/>
            <a:rect l="l" t="t" r="r" b="b"/>
            <a:pathLst>
              <a:path w="390" h="536">
                <a:moveTo>
                  <a:pt x="115" y="0"/>
                </a:moveTo>
                <a:cubicBezTo>
                  <a:pt x="104" y="72"/>
                  <a:pt x="0" y="343"/>
                  <a:pt x="46" y="432"/>
                </a:cubicBezTo>
                <a:cubicBezTo>
                  <a:pt x="92" y="521"/>
                  <a:pt x="318" y="514"/>
                  <a:pt x="390" y="5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4876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ecking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8604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38322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G)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4360" y="321300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4360" y="3716280"/>
            <a:ext cx="7343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476360" y="472428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4360" y="5805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trix Grammar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9640" y="1052640"/>
            <a:ext cx="73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32000" y="206064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314172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11280" y="378936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17840" y="3789360"/>
            <a:ext cx="698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82200" y="5516640"/>
            <a:ext cx="38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G and Genera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-MGNs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n-MGR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Convers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11280" y="1125360"/>
            <a:ext cx="798984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l 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there exists an equivalent matrix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matrix grammar there exists an equivalen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1280" y="5084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63528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11280" y="5516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580000" y="5084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580000" y="5516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67280" y="5229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21964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General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11280" y="5805360"/>
            <a:ext cx="338436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s defined by matrix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643280" y="5589720"/>
            <a:ext cx="3348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356000" y="5805360"/>
            <a:ext cx="165744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732720" y="5805360"/>
            <a:ext cx="16542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979640" y="5410080"/>
            <a:ext cx="915840" cy="395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800" y="1143000"/>
            <a:ext cx="7772400" cy="32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R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denote the language families defined by general   n-MGN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and general n-MGR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MG) =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R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N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4800600" y="2438280"/>
            <a:ext cx="4114800" cy="3979800"/>
            <a:chOff x="4800600" y="2438280"/>
            <a:chExt cx="4114800" cy="3979800"/>
          </a:xfrm>
        </p:grpSpPr>
        <p:sp>
          <p:nvSpPr>
            <p:cNvPr id="62" name=""/>
            <p:cNvSpPr/>
            <p:nvPr/>
          </p:nvSpPr>
          <p:spPr>
            <a:xfrm>
              <a:off x="4876920" y="49528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76920" y="37339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76920" y="24382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derivatio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8686800" y="2743200"/>
              <a:ext cx="0" cy="312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8381520" y="27432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8381520" y="40384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8381520" y="5257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1828800"/>
            <a:ext cx="4114800" cy="4589280"/>
            <a:chOff x="533520" y="1828800"/>
            <a:chExt cx="4114800" cy="4589280"/>
          </a:xfrm>
        </p:grpSpPr>
        <p:sp>
          <p:nvSpPr>
            <p:cNvPr id="71" name=""/>
            <p:cNvSpPr/>
            <p:nvPr/>
          </p:nvSpPr>
          <p:spPr>
            <a:xfrm>
              <a:off x="990720" y="43434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90720" y="30481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90720" y="18288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52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multiform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85800" y="2133360"/>
              <a:ext cx="0" cy="373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" y="21337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" y="33526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" y="46483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ing: Two Approach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066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ymbol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10666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ule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13104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20725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36090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13107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20728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36086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1310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20725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3596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51966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59587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74952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51969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59590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74948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5196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9587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7482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105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5181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terminal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 n-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ultigenerativ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onterminal-synchronize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 syste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343400"/>
            <a:ext cx="83059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41911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153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105520" y="41911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219320"/>
            <a:ext cx="838224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be a n-MG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2971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2004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38862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4100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1789560" y="491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37339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44197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51814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5791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61866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426708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86600" y="3352680"/>
            <a:ext cx="1295280" cy="53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n-L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620120" y="38862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5257800"/>
            <a:ext cx="28954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5797800" y="593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52578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i="1" lang="en-GB" sz="3900" spc="-1" strike="noStrike">
                <a:solidFill>
                  <a:srgbClr val="000000"/>
                </a:solidFill>
                <a:latin typeface="Times New Roman"/>
              </a:rPr>
              <a:t> Mod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cs-CZ" sz="2900" spc="-1" strike="noStrike" baseline="-25000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53406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53406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1480" y="51814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1219320"/>
            <a:ext cx="800100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Union Mo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3124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335268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4038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556272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5400000">
            <a:off x="1789560" y="5065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38862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45720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5334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594360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633888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14800" y="434340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81680" y="350532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695720" y="4114800"/>
            <a:ext cx="2286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5400000">
            <a:off x="5797800" y="4486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5797800" y="6010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5410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102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00800" y="541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atenat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200" spc="-1" strike="noStrike">
                <a:solidFill>
                  <a:srgbClr val="000000"/>
                </a:solidFill>
                <a:latin typeface="Times New Roman"/>
              </a:rPr>
              <a:t>Conc. M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57978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48320" y="5181480"/>
            <a:ext cx="22096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6-26T22:50:05Z</dcterms:modified>
  <cp:revision>193</cp:revision>
  <dc:subject/>
  <dc:title>Formal Languages and Compilers</dc:title>
</cp:coreProperties>
</file>