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6DAA-9AA1-4405-9CBF-DEB4E0503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FB92-1D71-4C97-BF94-FBAAC93E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B0FF-3775-40A6-9933-937CBC55D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40CE-F09B-4ED7-B32C-189A0FD2E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67B4-7A5D-4966-BBBD-F8D12A3F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967F-F13C-4463-9F5D-95566035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451C-A15A-4BBD-B05F-F8E83494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C9E4-E7AF-4778-9254-F4CA89BD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4479-AD74-4C17-8DC2-4CF14271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22CF-DCFF-468F-8619-6BA28DE7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9020-6338-4892-814B-2F2BC862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9F05-1675-46D5-B2F4-66EE8160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74AF-6B03-4E82-B335-655F4F7EF85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980640"/>
            <a:ext cx="774684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Formal Languages and Compile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3716280"/>
            <a:ext cx="612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Alexander Medu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&amp;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man Luk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á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85800" y="17524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16765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f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is a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3124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pre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35812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prefixe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219320" y="4648320"/>
            <a:ext cx="2971800" cy="1752480"/>
            <a:chOff x="1219320" y="4648320"/>
            <a:chExt cx="2971800" cy="1752480"/>
          </a:xfrm>
        </p:grpSpPr>
        <p:sp>
          <p:nvSpPr>
            <p:cNvPr id="235" name=""/>
            <p:cNvSpPr/>
            <p:nvPr/>
          </p:nvSpPr>
          <p:spPr>
            <a:xfrm>
              <a:off x="3886200" y="4648320"/>
              <a:ext cx="304920" cy="17524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19320" y="525780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Pre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952880" y="4952880"/>
            <a:ext cx="2895840" cy="1066680"/>
            <a:chOff x="4952880" y="4952880"/>
            <a:chExt cx="2895840" cy="1066680"/>
          </a:xfrm>
        </p:grpSpPr>
        <p:sp>
          <p:nvSpPr>
            <p:cNvPr id="238" name=""/>
            <p:cNvSpPr/>
            <p:nvPr/>
          </p:nvSpPr>
          <p:spPr>
            <a:xfrm>
              <a:off x="4952880" y="4952880"/>
              <a:ext cx="304920" cy="106668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57800" y="5029200"/>
              <a:ext cx="2590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per pre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191120" y="4267080"/>
            <a:ext cx="456840" cy="733680"/>
            <a:chOff x="4191120" y="4267080"/>
            <a:chExt cx="456840" cy="733680"/>
          </a:xfrm>
        </p:grpSpPr>
        <p:sp>
          <p:nvSpPr>
            <p:cNvPr id="241" name=""/>
            <p:cNvSpPr/>
            <p:nvPr/>
          </p:nvSpPr>
          <p:spPr>
            <a:xfrm>
              <a:off x="4191120" y="441936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37364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191120" y="4267080"/>
            <a:ext cx="380880" cy="1114920"/>
            <a:chOff x="4191120" y="4267080"/>
            <a:chExt cx="380880" cy="1114920"/>
          </a:xfrm>
        </p:grpSpPr>
        <p:sp>
          <p:nvSpPr>
            <p:cNvPr id="244" name=""/>
            <p:cNvSpPr/>
            <p:nvPr/>
          </p:nvSpPr>
          <p:spPr>
            <a:xfrm>
              <a:off x="4191120" y="48006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191120" y="4267080"/>
            <a:ext cx="685800" cy="1495800"/>
            <a:chOff x="4191120" y="4267080"/>
            <a:chExt cx="685800" cy="1495800"/>
          </a:xfrm>
        </p:grpSpPr>
        <p:sp>
          <p:nvSpPr>
            <p:cNvPr id="247" name=""/>
            <p:cNvSpPr/>
            <p:nvPr/>
          </p:nvSpPr>
          <p:spPr>
            <a:xfrm>
              <a:off x="4191120" y="51814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191120" y="4267080"/>
            <a:ext cx="838080" cy="1876680"/>
            <a:chOff x="4191120" y="4267080"/>
            <a:chExt cx="838080" cy="1876680"/>
          </a:xfrm>
        </p:grpSpPr>
        <p:sp>
          <p:nvSpPr>
            <p:cNvPr id="250" name=""/>
            <p:cNvSpPr/>
            <p:nvPr/>
          </p:nvSpPr>
          <p:spPr>
            <a:xfrm>
              <a:off x="4191120" y="556236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191120" y="4267080"/>
            <a:ext cx="1066680" cy="2257920"/>
            <a:chOff x="4191120" y="4267080"/>
            <a:chExt cx="1066680" cy="2257920"/>
          </a:xfrm>
        </p:grpSpPr>
        <p:sp>
          <p:nvSpPr>
            <p:cNvPr id="253" name=""/>
            <p:cNvSpPr/>
            <p:nvPr/>
          </p:nvSpPr>
          <p:spPr>
            <a:xfrm>
              <a:off x="4191120" y="594360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efix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prefix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85800" y="17524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16765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ff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is a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124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36576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suffixe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219320" y="4724280"/>
            <a:ext cx="2971800" cy="1752840"/>
            <a:chOff x="1219320" y="4724280"/>
            <a:chExt cx="2971800" cy="1752840"/>
          </a:xfrm>
        </p:grpSpPr>
        <p:sp>
          <p:nvSpPr>
            <p:cNvPr id="264" name=""/>
            <p:cNvSpPr/>
            <p:nvPr/>
          </p:nvSpPr>
          <p:spPr>
            <a:xfrm>
              <a:off x="3886200" y="4724280"/>
              <a:ext cx="304920" cy="175284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53341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Suf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105520" y="5029200"/>
            <a:ext cx="2895120" cy="1066680"/>
            <a:chOff x="5105520" y="5029200"/>
            <a:chExt cx="2895120" cy="1066680"/>
          </a:xfrm>
        </p:grpSpPr>
        <p:sp>
          <p:nvSpPr>
            <p:cNvPr id="267" name=""/>
            <p:cNvSpPr/>
            <p:nvPr/>
          </p:nvSpPr>
          <p:spPr>
            <a:xfrm>
              <a:off x="5105520" y="5029200"/>
              <a:ext cx="304560" cy="106668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10080" y="5105520"/>
              <a:ext cx="2590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per suf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191120" y="4419720"/>
            <a:ext cx="990360" cy="657360"/>
            <a:chOff x="4191120" y="4419720"/>
            <a:chExt cx="990360" cy="657360"/>
          </a:xfrm>
        </p:grpSpPr>
        <p:sp>
          <p:nvSpPr>
            <p:cNvPr id="270" name=""/>
            <p:cNvSpPr/>
            <p:nvPr/>
          </p:nvSpPr>
          <p:spPr>
            <a:xfrm>
              <a:off x="4191120" y="449568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   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724280" y="44197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191120" y="4343400"/>
            <a:ext cx="989640" cy="1114920"/>
            <a:chOff x="4191120" y="4343400"/>
            <a:chExt cx="989640" cy="1114920"/>
          </a:xfrm>
        </p:grpSpPr>
        <p:sp>
          <p:nvSpPr>
            <p:cNvPr id="273" name=""/>
            <p:cNvSpPr/>
            <p:nvPr/>
          </p:nvSpPr>
          <p:spPr>
            <a:xfrm>
              <a:off x="4191120" y="4876920"/>
              <a:ext cx="98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8676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4199040" y="4343400"/>
            <a:ext cx="990360" cy="1495800"/>
            <a:chOff x="4199040" y="4343400"/>
            <a:chExt cx="990360" cy="1495800"/>
          </a:xfrm>
        </p:grpSpPr>
        <p:sp>
          <p:nvSpPr>
            <p:cNvPr id="276" name=""/>
            <p:cNvSpPr/>
            <p:nvPr/>
          </p:nvSpPr>
          <p:spPr>
            <a:xfrm>
              <a:off x="4199040" y="52578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4340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164120" y="4343400"/>
            <a:ext cx="1017360" cy="1876680"/>
            <a:chOff x="4164120" y="4343400"/>
            <a:chExt cx="1017360" cy="1876680"/>
          </a:xfrm>
        </p:grpSpPr>
        <p:sp>
          <p:nvSpPr>
            <p:cNvPr id="279" name=""/>
            <p:cNvSpPr/>
            <p:nvPr/>
          </p:nvSpPr>
          <p:spPr>
            <a:xfrm>
              <a:off x="4164120" y="5638680"/>
              <a:ext cx="101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43400" y="4343400"/>
              <a:ext cx="14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4191120" y="4343400"/>
            <a:ext cx="1066680" cy="2257920"/>
            <a:chOff x="4191120" y="4343400"/>
            <a:chExt cx="1066680" cy="2257920"/>
          </a:xfrm>
        </p:grpSpPr>
        <p:sp>
          <p:nvSpPr>
            <p:cNvPr id="282" name=""/>
            <p:cNvSpPr/>
            <p:nvPr/>
          </p:nvSpPr>
          <p:spPr>
            <a:xfrm>
              <a:off x="4191120" y="601992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4340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ffix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suffix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429000" y="5257800"/>
            <a:ext cx="533520" cy="6094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9880" y="4876920"/>
            <a:ext cx="457200" cy="5331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81480" y="4905360"/>
            <a:ext cx="457200" cy="5335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762120" y="4572000"/>
            <a:ext cx="4267080" cy="2057400"/>
            <a:chOff x="762120" y="4572000"/>
            <a:chExt cx="4267080" cy="2057400"/>
          </a:xfrm>
        </p:grpSpPr>
        <p:sp>
          <p:nvSpPr>
            <p:cNvPr id="291" name=""/>
            <p:cNvSpPr/>
            <p:nvPr/>
          </p:nvSpPr>
          <p:spPr>
            <a:xfrm>
              <a:off x="3200400" y="4572000"/>
              <a:ext cx="1828800" cy="2057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762120" y="4572000"/>
              <a:ext cx="2361600" cy="2057040"/>
              <a:chOff x="762120" y="4572000"/>
              <a:chExt cx="2361600" cy="2057040"/>
            </a:xfrm>
          </p:grpSpPr>
          <p:sp>
            <p:nvSpPr>
              <p:cNvPr id="293" name=""/>
              <p:cNvSpPr/>
              <p:nvPr/>
            </p:nvSpPr>
            <p:spPr>
              <a:xfrm>
                <a:off x="2881440" y="4572000"/>
                <a:ext cx="242280" cy="2057040"/>
              </a:xfrm>
              <a:custGeom>
                <a:avLst/>
                <a:gdLst>
                  <a:gd name="textAreaLeft" fmla="*/ 154800 w 242280"/>
                  <a:gd name="textAreaRight" fmla="*/ 242640 w 242280"/>
                  <a:gd name="textAreaTop" fmla="*/ 53640 h 2057040"/>
                  <a:gd name="textAreaBottom" fmla="*/ 2003400 h 205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62120" y="5287680"/>
                <a:ext cx="21812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Substrings of 1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5" name=""/>
          <p:cNvGrpSpPr/>
          <p:nvPr/>
        </p:nvGrpSpPr>
        <p:grpSpPr>
          <a:xfrm>
            <a:off x="3429000" y="4952880"/>
            <a:ext cx="5126040" cy="1219320"/>
            <a:chOff x="3429000" y="4952880"/>
            <a:chExt cx="5126040" cy="1219320"/>
          </a:xfrm>
        </p:grpSpPr>
        <p:sp>
          <p:nvSpPr>
            <p:cNvPr id="296" name=""/>
            <p:cNvSpPr/>
            <p:nvPr/>
          </p:nvSpPr>
          <p:spPr>
            <a:xfrm>
              <a:off x="3429000" y="4952880"/>
              <a:ext cx="1752480" cy="1219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5257800" y="4952880"/>
              <a:ext cx="3297240" cy="1218960"/>
              <a:chOff x="5257800" y="4952880"/>
              <a:chExt cx="3297240" cy="1218960"/>
            </a:xfrm>
          </p:grpSpPr>
          <p:sp>
            <p:nvSpPr>
              <p:cNvPr id="298" name=""/>
              <p:cNvSpPr/>
              <p:nvPr/>
            </p:nvSpPr>
            <p:spPr>
              <a:xfrm>
                <a:off x="5257800" y="4952880"/>
                <a:ext cx="228600" cy="1218960"/>
              </a:xfrm>
              <a:custGeom>
                <a:avLst/>
                <a:gdLst>
                  <a:gd name="textAreaLeft" fmla="*/ 0 w 228600"/>
                  <a:gd name="textAreaRight" fmla="*/ 82440 w 228600"/>
                  <a:gd name="textAreaTop" fmla="*/ 31680 h 1218960"/>
                  <a:gd name="textAreaBottom" fmla="*/ 1187280 h 121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86400" y="5040000"/>
                <a:ext cx="3068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Proper substrings of 1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0" name=""/>
          <p:cNvSpPr/>
          <p:nvPr/>
        </p:nvSpPr>
        <p:spPr>
          <a:xfrm>
            <a:off x="452592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30840" y="3990960"/>
            <a:ext cx="30456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3540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4032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25920" y="3990960"/>
            <a:ext cx="6094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830840" y="3990960"/>
            <a:ext cx="6094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35400" y="3990960"/>
            <a:ext cx="60984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25920" y="3990960"/>
            <a:ext cx="91440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30840" y="3990960"/>
            <a:ext cx="91440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25920" y="3990960"/>
            <a:ext cx="12193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95680" y="3962520"/>
            <a:ext cx="126684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are two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, 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x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480" y="30481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sub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9480" y="3429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substring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 0 1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29000" y="53341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4290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352680" y="4876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57600" y="4876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52680" y="54100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29000" y="5257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6200" y="5257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429000" y="58672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56386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38480" y="5638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429000" y="6095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substring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xz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6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4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2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1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0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8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6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5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3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1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1600200"/>
            <a:ext cx="7772400" cy="9381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52388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note the set of all string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Every subs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9480" y="24382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note the s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762120" y="3071880"/>
            <a:ext cx="7848360" cy="2146320"/>
            <a:chOff x="762120" y="3071880"/>
            <a:chExt cx="7848360" cy="2146320"/>
          </a:xfrm>
        </p:grpSpPr>
        <p:sp>
          <p:nvSpPr>
            <p:cNvPr id="335" name=""/>
            <p:cNvSpPr/>
            <p:nvPr/>
          </p:nvSpPr>
          <p:spPr>
            <a:xfrm>
              <a:off x="762120" y="3478320"/>
              <a:ext cx="7619760" cy="1739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91520" y="3071880"/>
              <a:ext cx="12189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153280" y="368136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1905120" y="6172200"/>
            <a:ext cx="5486400" cy="579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are languages ove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6934320" y="4495680"/>
            <a:ext cx="1600200" cy="960480"/>
            <a:chOff x="6934320" y="4495680"/>
            <a:chExt cx="1600200" cy="960480"/>
          </a:xfrm>
        </p:grpSpPr>
        <p:sp>
          <p:nvSpPr>
            <p:cNvPr id="340" name=""/>
            <p:cNvSpPr/>
            <p:nvPr/>
          </p:nvSpPr>
          <p:spPr>
            <a:xfrm>
              <a:off x="7238880" y="4876560"/>
              <a:ext cx="1295640" cy="579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934320" y="4495680"/>
              <a:ext cx="685800" cy="22860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20120" y="4647960"/>
              <a:ext cx="6094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609480" y="4062240"/>
            <a:ext cx="1600200" cy="1417680"/>
            <a:chOff x="609480" y="4062240"/>
            <a:chExt cx="1600200" cy="1417680"/>
          </a:xfrm>
        </p:grpSpPr>
        <p:sp>
          <p:nvSpPr>
            <p:cNvPr id="344" name=""/>
            <p:cNvSpPr/>
            <p:nvPr/>
          </p:nvSpPr>
          <p:spPr>
            <a:xfrm>
              <a:off x="1143000" y="4062240"/>
              <a:ext cx="609480" cy="68580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9480" y="4900320"/>
              <a:ext cx="1600200" cy="579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914400" y="4519440"/>
              <a:ext cx="2397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2743200" y="3962520"/>
            <a:ext cx="5791320" cy="2153880"/>
            <a:chOff x="2743200" y="3962520"/>
            <a:chExt cx="5791320" cy="2153880"/>
          </a:xfrm>
        </p:grpSpPr>
        <p:sp>
          <p:nvSpPr>
            <p:cNvPr id="348" name=""/>
            <p:cNvSpPr/>
            <p:nvPr/>
          </p:nvSpPr>
          <p:spPr>
            <a:xfrm>
              <a:off x="2743200" y="4114440"/>
              <a:ext cx="3276720" cy="99036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67080" y="5486040"/>
              <a:ext cx="4267440" cy="63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ubstring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flipV="1">
              <a:off x="5486400" y="4952880"/>
              <a:ext cx="533520" cy="53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57800" y="3962520"/>
              <a:ext cx="9907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6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1371600" y="3733920"/>
            <a:ext cx="2743200" cy="2382480"/>
            <a:chOff x="1371600" y="3733920"/>
            <a:chExt cx="2743200" cy="2382480"/>
          </a:xfrm>
        </p:grpSpPr>
        <p:sp>
          <p:nvSpPr>
            <p:cNvPr id="353" name=""/>
            <p:cNvSpPr/>
            <p:nvPr/>
          </p:nvSpPr>
          <p:spPr>
            <a:xfrm>
              <a:off x="1752480" y="3733920"/>
              <a:ext cx="1219320" cy="83772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371600" y="5486040"/>
              <a:ext cx="2743200" cy="63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2438280" y="4571280"/>
              <a:ext cx="152640" cy="9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609480" y="28954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295280" y="3505320"/>
            <a:ext cx="7391520" cy="1434600"/>
            <a:chOff x="1295280" y="3505320"/>
            <a:chExt cx="7391520" cy="1434600"/>
          </a:xfrm>
        </p:grpSpPr>
        <p:sp>
          <p:nvSpPr>
            <p:cNvPr id="358" name=""/>
            <p:cNvSpPr/>
            <p:nvPr/>
          </p:nvSpPr>
          <p:spPr>
            <a:xfrm>
              <a:off x="5334120" y="3581280"/>
              <a:ext cx="76176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95280" y="41144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86200" y="3505320"/>
              <a:ext cx="6858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24080" y="35812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048120" y="434304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648320" y="350532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72200" y="37335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33920" y="4267080"/>
              <a:ext cx="76176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572000" y="44193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96080" y="3581280"/>
              <a:ext cx="9907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6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95880" y="44193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10280" y="388584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81080" y="38858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38280" y="38858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85800" y="213372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85800" y="205740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 language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ontains a finite number of strings; otherwise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29718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 a set; card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s the number of its member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609840" y="3352680"/>
            <a:ext cx="7772040" cy="3292200"/>
            <a:chOff x="609840" y="3352680"/>
            <a:chExt cx="7772040" cy="3292200"/>
          </a:xfrm>
        </p:grpSpPr>
        <p:sp>
          <p:nvSpPr>
            <p:cNvPr id="380" name=""/>
            <p:cNvSpPr/>
            <p:nvPr/>
          </p:nvSpPr>
          <p:spPr>
            <a:xfrm>
              <a:off x="609840" y="3352680"/>
              <a:ext cx="201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s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1000" y="3886200"/>
              <a:ext cx="5564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7400" y="4343400"/>
              <a:ext cx="5866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" y="4807080"/>
              <a:ext cx="754380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}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85800" y="5638680"/>
              <a:ext cx="769608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ubstring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10, 010, 100, … }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nfini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nd Infinite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9480" y="10666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finit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anguag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contains a finite number of 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9480" y="1600200"/>
            <a:ext cx="800100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609480" y="3124080"/>
            <a:ext cx="8072640" cy="1639440"/>
            <a:chOff x="609480" y="3124080"/>
            <a:chExt cx="8072640" cy="1639440"/>
          </a:xfrm>
        </p:grpSpPr>
        <p:sp>
          <p:nvSpPr>
            <p:cNvPr id="392" name=""/>
            <p:cNvSpPr/>
            <p:nvPr/>
          </p:nvSpPr>
          <p:spPr>
            <a:xfrm>
              <a:off x="609480" y="3124080"/>
              <a:ext cx="807264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09480" y="4114800"/>
              <a:ext cx="358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895480" y="3809880"/>
            <a:ext cx="5638680" cy="1828800"/>
            <a:chOff x="2895480" y="3809880"/>
            <a:chExt cx="5638680" cy="1828800"/>
          </a:xfrm>
        </p:grpSpPr>
        <p:sp>
          <p:nvSpPr>
            <p:cNvPr id="395" name=""/>
            <p:cNvSpPr/>
            <p:nvPr/>
          </p:nvSpPr>
          <p:spPr>
            <a:xfrm>
              <a:off x="5028840" y="3809880"/>
              <a:ext cx="243864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62160" y="380988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28840" y="3809880"/>
              <a:ext cx="2438640" cy="182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89548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84836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581280" y="487692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467480" y="487692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4419360" y="4114800"/>
              <a:ext cx="2666880" cy="1206360"/>
              <a:chOff x="4419360" y="4114800"/>
              <a:chExt cx="2666880" cy="1206360"/>
            </a:xfrm>
          </p:grpSpPr>
          <p:sp>
            <p:nvSpPr>
              <p:cNvPr id="403" name=""/>
              <p:cNvSpPr/>
              <p:nvPr/>
            </p:nvSpPr>
            <p:spPr>
              <a:xfrm>
                <a:off x="4419360" y="41148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419360" y="48006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409720" y="41148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409720" y="48006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476760" y="41148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476760" y="48006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n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Union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2666880" y="3809880"/>
            <a:ext cx="5333760" cy="2630160"/>
            <a:chOff x="2666880" y="3809880"/>
            <a:chExt cx="5333760" cy="2630160"/>
          </a:xfrm>
        </p:grpSpPr>
        <p:grpSp>
          <p:nvGrpSpPr>
            <p:cNvPr id="412" name=""/>
            <p:cNvGrpSpPr/>
            <p:nvPr/>
          </p:nvGrpSpPr>
          <p:grpSpPr>
            <a:xfrm>
              <a:off x="2666880" y="3809880"/>
              <a:ext cx="5333760" cy="2630160"/>
              <a:chOff x="2666880" y="3809880"/>
              <a:chExt cx="5333760" cy="2630160"/>
            </a:xfrm>
          </p:grpSpPr>
          <p:sp>
            <p:nvSpPr>
              <p:cNvPr id="413" name=""/>
              <p:cNvSpPr/>
              <p:nvPr/>
            </p:nvSpPr>
            <p:spPr>
              <a:xfrm>
                <a:off x="2666880" y="5791320"/>
                <a:ext cx="5333760" cy="648720"/>
              </a:xfrm>
              <a:prstGeom prst="rect">
                <a:avLst/>
              </a:prstGeom>
              <a:noFill/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{0, 1, 00, 01, 10, 11}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1464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5" name=""/>
              <p:cNvGrpSpPr/>
              <p:nvPr/>
            </p:nvGrpSpPr>
            <p:grpSpPr>
              <a:xfrm>
                <a:off x="3962160" y="3809880"/>
                <a:ext cx="3504960" cy="1828800"/>
                <a:chOff x="3962160" y="3809880"/>
                <a:chExt cx="3504960" cy="182880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3962160" y="3809880"/>
                  <a:ext cx="2438280" cy="1828800"/>
                </a:xfrm>
                <a:prstGeom prst="ellipse">
                  <a:avLst/>
                </a:pr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028840" y="3809880"/>
                  <a:ext cx="2438280" cy="1828800"/>
                </a:xfrm>
                <a:prstGeom prst="ellipse">
                  <a:avLst/>
                </a:pr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962160" y="3809880"/>
                  <a:ext cx="2438280" cy="18288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9" name=""/>
            <p:cNvGrpSpPr/>
            <p:nvPr/>
          </p:nvGrpSpPr>
          <p:grpSpPr>
            <a:xfrm>
              <a:off x="4419360" y="4114800"/>
              <a:ext cx="2666880" cy="1206000"/>
              <a:chOff x="4419360" y="4114800"/>
              <a:chExt cx="2666880" cy="1206000"/>
            </a:xfrm>
          </p:grpSpPr>
          <p:sp>
            <p:nvSpPr>
              <p:cNvPr id="420" name=""/>
              <p:cNvSpPr/>
              <p:nvPr/>
            </p:nvSpPr>
            <p:spPr>
              <a:xfrm>
                <a:off x="4419360" y="41148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419360" y="48002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409720" y="41148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409720" y="48002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476760" y="41148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476760" y="48002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"/>
          <p:cNvGrpSpPr/>
          <p:nvPr/>
        </p:nvGrpSpPr>
        <p:grpSpPr>
          <a:xfrm>
            <a:off x="520560" y="3124080"/>
            <a:ext cx="7848720" cy="1639440"/>
            <a:chOff x="520560" y="3124080"/>
            <a:chExt cx="7848720" cy="1639440"/>
          </a:xfrm>
        </p:grpSpPr>
        <p:sp>
          <p:nvSpPr>
            <p:cNvPr id="428" name=""/>
            <p:cNvSpPr/>
            <p:nvPr/>
          </p:nvSpPr>
          <p:spPr>
            <a:xfrm>
              <a:off x="520560" y="3124080"/>
              <a:ext cx="784872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20560" y="411480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2895480" y="3809880"/>
            <a:ext cx="5638680" cy="1828800"/>
            <a:chOff x="2895480" y="3809880"/>
            <a:chExt cx="5638680" cy="1828800"/>
          </a:xfrm>
        </p:grpSpPr>
        <p:sp>
          <p:nvSpPr>
            <p:cNvPr id="431" name=""/>
            <p:cNvSpPr/>
            <p:nvPr/>
          </p:nvSpPr>
          <p:spPr>
            <a:xfrm>
              <a:off x="5029200" y="380988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62160" y="3809880"/>
              <a:ext cx="243864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29200" y="3809880"/>
              <a:ext cx="2438280" cy="182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895480" y="472428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848360" y="472428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3581280" y="472428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467480" y="472428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4419360" y="4114440"/>
              <a:ext cx="2666880" cy="1206360"/>
              <a:chOff x="4419360" y="4114440"/>
              <a:chExt cx="2666880" cy="1206360"/>
            </a:xfrm>
          </p:grpSpPr>
          <p:sp>
            <p:nvSpPr>
              <p:cNvPr id="439" name=""/>
              <p:cNvSpPr/>
              <p:nvPr/>
            </p:nvSpPr>
            <p:spPr>
              <a:xfrm>
                <a:off x="4419360" y="41144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419360" y="48002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409720" y="41144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409720" y="48002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476760" y="41144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476760" y="48002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ersect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961800" y="3784320"/>
            <a:ext cx="3505680" cy="2655720"/>
            <a:chOff x="3961800" y="3784320"/>
            <a:chExt cx="3505680" cy="2655720"/>
          </a:xfrm>
        </p:grpSpPr>
        <p:grpSp>
          <p:nvGrpSpPr>
            <p:cNvPr id="447" name=""/>
            <p:cNvGrpSpPr/>
            <p:nvPr/>
          </p:nvGrpSpPr>
          <p:grpSpPr>
            <a:xfrm>
              <a:off x="3961800" y="3784320"/>
              <a:ext cx="3505680" cy="2655720"/>
              <a:chOff x="3961800" y="3784320"/>
              <a:chExt cx="3505680" cy="2655720"/>
            </a:xfrm>
          </p:grpSpPr>
          <p:sp>
            <p:nvSpPr>
              <p:cNvPr id="448" name=""/>
              <p:cNvSpPr/>
              <p:nvPr/>
            </p:nvSpPr>
            <p:spPr>
              <a:xfrm>
                <a:off x="4038480" y="5791320"/>
                <a:ext cx="3429000" cy="648720"/>
              </a:xfrm>
              <a:prstGeom prst="rect">
                <a:avLst/>
              </a:prstGeom>
              <a:noFill/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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{00, 01}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9" name=""/>
              <p:cNvGrpSpPr/>
              <p:nvPr/>
            </p:nvGrpSpPr>
            <p:grpSpPr>
              <a:xfrm>
                <a:off x="3961800" y="3784320"/>
                <a:ext cx="3504240" cy="1888200"/>
                <a:chOff x="3961800" y="3784320"/>
                <a:chExt cx="3504240" cy="188820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3961800" y="3784320"/>
                  <a:ext cx="2438280" cy="188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85" y="1168"/>
                      </a:moveTo>
                      <a:arcTo wR="10800" hR="10800" stAng="-3786548" swAng="76095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85" y="1168"/>
                      </a:moveTo>
                      <a:arcTo wR="10800" hR="10800" stAng="-3786548" swAng="7609503"/>
                    </a:path>
                  </a:pathLst>
                </a:cu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H="1">
                  <a:off x="5028120" y="3784320"/>
                  <a:ext cx="2437560" cy="188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85" y="1168"/>
                      </a:moveTo>
                      <a:arcTo wR="10800" hR="10800" stAng="-3786548" swAng="76095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85" y="1168"/>
                      </a:moveTo>
                      <a:arcTo wR="10800" hR="10800" stAng="-3786548" swAng="7609503"/>
                    </a:path>
                  </a:pathLst>
                </a:cu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2" name=""/>
              <p:cNvSpPr/>
              <p:nvPr/>
            </p:nvSpPr>
            <p:spPr>
              <a:xfrm>
                <a:off x="571464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5410080" y="41148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410080" y="48006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Intersection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1600200"/>
            <a:ext cx="8077320" cy="17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Th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terse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685800" y="16002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5800" y="1523880"/>
            <a:ext cx="8001000" cy="16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609480" y="3048120"/>
            <a:ext cx="7848720" cy="1639440"/>
            <a:chOff x="609480" y="3048120"/>
            <a:chExt cx="7848720" cy="1639440"/>
          </a:xfrm>
        </p:grpSpPr>
        <p:sp>
          <p:nvSpPr>
            <p:cNvPr id="464" name=""/>
            <p:cNvSpPr/>
            <p:nvPr/>
          </p:nvSpPr>
          <p:spPr>
            <a:xfrm>
              <a:off x="609480" y="3048120"/>
              <a:ext cx="784872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09480" y="4038840"/>
              <a:ext cx="3276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895480" y="3733920"/>
            <a:ext cx="5638680" cy="1828800"/>
            <a:chOff x="2895480" y="3733920"/>
            <a:chExt cx="5638680" cy="1828800"/>
          </a:xfrm>
        </p:grpSpPr>
        <p:sp>
          <p:nvSpPr>
            <p:cNvPr id="467" name=""/>
            <p:cNvSpPr/>
            <p:nvPr/>
          </p:nvSpPr>
          <p:spPr>
            <a:xfrm>
              <a:off x="3962160" y="373392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2895480" y="3733920"/>
              <a:ext cx="5638680" cy="1828800"/>
              <a:chOff x="2895480" y="3733920"/>
              <a:chExt cx="5638680" cy="1828800"/>
            </a:xfrm>
          </p:grpSpPr>
          <p:sp>
            <p:nvSpPr>
              <p:cNvPr id="469" name=""/>
              <p:cNvSpPr/>
              <p:nvPr/>
            </p:nvSpPr>
            <p:spPr>
              <a:xfrm>
                <a:off x="2895480" y="4648320"/>
                <a:ext cx="685800" cy="648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581280" y="4647960"/>
                <a:ext cx="3808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29200" y="3733920"/>
                <a:ext cx="2438280" cy="1828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962160" y="3733920"/>
                <a:ext cx="2438640" cy="1828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848360" y="4648320"/>
                <a:ext cx="685800" cy="648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467480" y="4648320"/>
                <a:ext cx="3808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4419360" y="4038840"/>
              <a:ext cx="2666880" cy="1206360"/>
              <a:chOff x="4419360" y="4038840"/>
              <a:chExt cx="2666880" cy="1206360"/>
            </a:xfrm>
          </p:grpSpPr>
          <p:sp>
            <p:nvSpPr>
              <p:cNvPr id="476" name=""/>
              <p:cNvSpPr/>
              <p:nvPr/>
            </p:nvSpPr>
            <p:spPr>
              <a:xfrm>
                <a:off x="4419360" y="40388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419360" y="47246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409720" y="40388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409720" y="47246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476760" y="40388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476760" y="47246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fference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Difference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809880" y="3708000"/>
            <a:ext cx="3656520" cy="2731680"/>
            <a:chOff x="3809880" y="3708000"/>
            <a:chExt cx="3656520" cy="2731680"/>
          </a:xfrm>
        </p:grpSpPr>
        <p:sp>
          <p:nvSpPr>
            <p:cNvPr id="485" name=""/>
            <p:cNvSpPr/>
            <p:nvPr/>
          </p:nvSpPr>
          <p:spPr>
            <a:xfrm>
              <a:off x="3809880" y="5790960"/>
              <a:ext cx="2819520" cy="6487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{0, 1}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181480" y="5562360"/>
              <a:ext cx="0" cy="2282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962520" y="3733920"/>
              <a:ext cx="2438280" cy="18284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19720" y="4038480"/>
              <a:ext cx="4572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19720" y="4724280"/>
              <a:ext cx="4572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3962160" y="3708000"/>
              <a:ext cx="3504240" cy="1887840"/>
              <a:chOff x="3962160" y="3708000"/>
              <a:chExt cx="3504240" cy="1887840"/>
            </a:xfrm>
          </p:grpSpPr>
          <p:sp>
            <p:nvSpPr>
              <p:cNvPr id="491" name=""/>
              <p:cNvSpPr/>
              <p:nvPr/>
            </p:nvSpPr>
            <p:spPr>
              <a:xfrm>
                <a:off x="3962160" y="3708000"/>
                <a:ext cx="2438280" cy="1887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685" y="1168"/>
                    </a:moveTo>
                    <a:arcTo wR="10800" hR="10800" stAng="-3786548" swAng="76095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685" y="1168"/>
                    </a:moveTo>
                    <a:arcTo wR="10800" hR="10800" stAng="-3786548" swAng="7609503"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5028480" y="3708000"/>
                <a:ext cx="2437560" cy="1887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685" y="1168"/>
                    </a:moveTo>
                    <a:arcTo wR="10800" hR="10800" stAng="-3786548" swAng="76095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685" y="1168"/>
                    </a:moveTo>
                    <a:arcTo wR="10800" hR="10800" stAng="-3786548" swAng="7609503"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5410080" y="40384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410080" y="47242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language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495680" y="213372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33920" y="266688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09480" y="3124080"/>
            <a:ext cx="7848720" cy="1114920"/>
            <a:chOff x="609480" y="3124080"/>
            <a:chExt cx="7848720" cy="1114920"/>
          </a:xfrm>
        </p:grpSpPr>
        <p:sp>
          <p:nvSpPr>
            <p:cNvPr id="502" name=""/>
            <p:cNvSpPr/>
            <p:nvPr/>
          </p:nvSpPr>
          <p:spPr>
            <a:xfrm>
              <a:off x="609480" y="31240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1, 10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609480" y="3657600"/>
              <a:ext cx="2667240" cy="581400"/>
              <a:chOff x="609480" y="3657600"/>
              <a:chExt cx="2667240" cy="581400"/>
            </a:xfrm>
          </p:grpSpPr>
          <p:sp>
            <p:nvSpPr>
              <p:cNvPr id="504" name=""/>
              <p:cNvSpPr/>
              <p:nvPr/>
            </p:nvSpPr>
            <p:spPr>
              <a:xfrm>
                <a:off x="609480" y="3657600"/>
                <a:ext cx="2667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Task:  </a:t>
                </a: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905120" y="3759120"/>
                <a:ext cx="304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6" name=""/>
          <p:cNvGrpSpPr/>
          <p:nvPr/>
        </p:nvGrpSpPr>
        <p:grpSpPr>
          <a:xfrm>
            <a:off x="914400" y="3657600"/>
            <a:ext cx="7502040" cy="2286000"/>
            <a:chOff x="914400" y="3657600"/>
            <a:chExt cx="7502040" cy="2286000"/>
          </a:xfrm>
        </p:grpSpPr>
        <p:sp>
          <p:nvSpPr>
            <p:cNvPr id="507" name=""/>
            <p:cNvSpPr/>
            <p:nvPr/>
          </p:nvSpPr>
          <p:spPr>
            <a:xfrm flipH="1">
              <a:off x="8076960" y="4267440"/>
              <a:ext cx="759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914400" y="3657600"/>
              <a:ext cx="7502040" cy="2286000"/>
              <a:chOff x="914400" y="3657600"/>
              <a:chExt cx="7502040" cy="2286000"/>
            </a:xfrm>
          </p:grpSpPr>
          <p:sp>
            <p:nvSpPr>
              <p:cNvPr id="509" name=""/>
              <p:cNvSpPr/>
              <p:nvPr/>
            </p:nvSpPr>
            <p:spPr>
              <a:xfrm>
                <a:off x="914400" y="4114800"/>
                <a:ext cx="7391520" cy="1828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877520" y="3657600"/>
                <a:ext cx="53892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1219320" y="4191120"/>
              <a:ext cx="7010280" cy="1510920"/>
              <a:chOff x="1219320" y="4191120"/>
              <a:chExt cx="7010280" cy="1510920"/>
            </a:xfrm>
          </p:grpSpPr>
          <p:sp>
            <p:nvSpPr>
              <p:cNvPr id="512" name=""/>
              <p:cNvSpPr/>
              <p:nvPr/>
            </p:nvSpPr>
            <p:spPr>
              <a:xfrm>
                <a:off x="7238880" y="4495680"/>
                <a:ext cx="99072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6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6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867280" y="44197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219320" y="472428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343400" y="4267080"/>
                <a:ext cx="6858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743200" y="449568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429000" y="48006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105520" y="419112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781680" y="457200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343400" y="51055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181480" y="51055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019920" y="5181480"/>
                <a:ext cx="7617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905120" y="472428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362320" y="480060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lement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 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76520" y="1219320"/>
            <a:ext cx="304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914400" y="4114800"/>
            <a:ext cx="7380000" cy="2257920"/>
            <a:chOff x="914400" y="4114800"/>
            <a:chExt cx="7380000" cy="2257920"/>
          </a:xfrm>
        </p:grpSpPr>
        <p:grpSp>
          <p:nvGrpSpPr>
            <p:cNvPr id="529" name=""/>
            <p:cNvGrpSpPr/>
            <p:nvPr/>
          </p:nvGrpSpPr>
          <p:grpSpPr>
            <a:xfrm>
              <a:off x="914400" y="4114800"/>
              <a:ext cx="7380000" cy="2257920"/>
              <a:chOff x="914400" y="4114800"/>
              <a:chExt cx="7380000" cy="2257920"/>
            </a:xfrm>
          </p:grpSpPr>
          <p:sp>
            <p:nvSpPr>
              <p:cNvPr id="530" name=""/>
              <p:cNvSpPr/>
              <p:nvPr/>
            </p:nvSpPr>
            <p:spPr>
              <a:xfrm>
                <a:off x="914400" y="4114800"/>
                <a:ext cx="7380000" cy="1828800"/>
              </a:xfrm>
              <a:prstGeom prst="ellipse">
                <a:avLst/>
              </a:prstGeom>
              <a:solidFill>
                <a:srgbClr val="3366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61976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2" name=""/>
              <p:cNvGrpSpPr/>
              <p:nvPr/>
            </p:nvGrpSpPr>
            <p:grpSpPr>
              <a:xfrm>
                <a:off x="7314840" y="5791320"/>
                <a:ext cx="609120" cy="581400"/>
                <a:chOff x="7314840" y="5791320"/>
                <a:chExt cx="609120" cy="58140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7314840" y="5791320"/>
                  <a:ext cx="609120" cy="58140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flipH="1">
                  <a:off x="7466760" y="5892840"/>
                  <a:ext cx="3045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5" name=""/>
            <p:cNvGrpSpPr/>
            <p:nvPr/>
          </p:nvGrpSpPr>
          <p:grpSpPr>
            <a:xfrm>
              <a:off x="1218960" y="4191120"/>
              <a:ext cx="7010640" cy="1510920"/>
              <a:chOff x="1218960" y="4191120"/>
              <a:chExt cx="7010640" cy="1510920"/>
            </a:xfrm>
          </p:grpSpPr>
          <p:sp>
            <p:nvSpPr>
              <p:cNvPr id="536" name=""/>
              <p:cNvSpPr/>
              <p:nvPr/>
            </p:nvSpPr>
            <p:spPr>
              <a:xfrm>
                <a:off x="7238880" y="4495680"/>
                <a:ext cx="99072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6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6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867280" y="441936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218960" y="4724280"/>
                <a:ext cx="3049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343400" y="4267080"/>
                <a:ext cx="6858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105160" y="419112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781680" y="457200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43400" y="5105160"/>
                <a:ext cx="7617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181480" y="510516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019560" y="518148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5" name=""/>
          <p:cNvGrpSpPr/>
          <p:nvPr/>
        </p:nvGrpSpPr>
        <p:grpSpPr>
          <a:xfrm>
            <a:off x="914400" y="4419720"/>
            <a:ext cx="3429000" cy="1952640"/>
            <a:chOff x="914400" y="4419720"/>
            <a:chExt cx="3429000" cy="1952640"/>
          </a:xfrm>
        </p:grpSpPr>
        <p:sp>
          <p:nvSpPr>
            <p:cNvPr id="546" name=""/>
            <p:cNvSpPr/>
            <p:nvPr/>
          </p:nvSpPr>
          <p:spPr>
            <a:xfrm>
              <a:off x="1600200" y="4419720"/>
              <a:ext cx="2743200" cy="11426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914400" y="5790960"/>
              <a:ext cx="60948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1523880" y="5486400"/>
              <a:ext cx="6858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743200" y="449568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429000" y="48006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04760" y="472428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361960" y="480060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"/>
          <p:cNvGrpSpPr/>
          <p:nvPr/>
        </p:nvGrpSpPr>
        <p:grpSpPr>
          <a:xfrm>
            <a:off x="2971800" y="4114800"/>
            <a:ext cx="4114800" cy="2286000"/>
            <a:chOff x="2971800" y="4114800"/>
            <a:chExt cx="4114800" cy="2286000"/>
          </a:xfrm>
        </p:grpSpPr>
        <p:sp>
          <p:nvSpPr>
            <p:cNvPr id="555" name=""/>
            <p:cNvSpPr/>
            <p:nvPr/>
          </p:nvSpPr>
          <p:spPr>
            <a:xfrm>
              <a:off x="2971800" y="4419720"/>
              <a:ext cx="3048120" cy="198108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5715000" y="457164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19920" y="4114800"/>
              <a:ext cx="106668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09480" y="1600200"/>
            <a:ext cx="815364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ate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9480" y="3048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 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657600" y="47242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594240" y="47322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57600" y="54100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594240" y="54180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648320" y="47242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584600" y="473220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648320" y="54100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584600" y="541800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5257800"/>
            <a:ext cx="20574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609480" y="4876920"/>
            <a:ext cx="2133720" cy="1676160"/>
            <a:chOff x="609480" y="4876920"/>
            <a:chExt cx="2133720" cy="1676160"/>
          </a:xfrm>
        </p:grpSpPr>
        <p:sp>
          <p:nvSpPr>
            <p:cNvPr id="572" name=""/>
            <p:cNvSpPr/>
            <p:nvPr/>
          </p:nvSpPr>
          <p:spPr>
            <a:xfrm>
              <a:off x="1523880" y="4952880"/>
              <a:ext cx="1219320" cy="1600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0948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295280" y="518148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05120" y="5105520"/>
              <a:ext cx="4572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905120" y="5791320"/>
              <a:ext cx="4572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7086600" y="5105520"/>
            <a:ext cx="20574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6248520" y="4572000"/>
            <a:ext cx="2286000" cy="1981080"/>
            <a:chOff x="6248520" y="4572000"/>
            <a:chExt cx="2286000" cy="1981080"/>
          </a:xfrm>
        </p:grpSpPr>
        <p:sp>
          <p:nvSpPr>
            <p:cNvPr id="579" name=""/>
            <p:cNvSpPr/>
            <p:nvPr/>
          </p:nvSpPr>
          <p:spPr>
            <a:xfrm>
              <a:off x="7848720" y="457200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7315200" y="4876920"/>
              <a:ext cx="53352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48520" y="4876920"/>
              <a:ext cx="1371600" cy="16761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629400" y="510552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629400" y="579132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609480" y="3505320"/>
            <a:ext cx="8382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 languag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0, 1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00, 01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3962520"/>
            <a:ext cx="2900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sk: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atenat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143000"/>
            <a:ext cx="8763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808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se lecture notes are based 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Automata and Languages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lexander Meduna, Springer, 2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3124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"/>
          <p:cNvGrpSpPr/>
          <p:nvPr/>
        </p:nvGrpSpPr>
        <p:grpSpPr>
          <a:xfrm>
            <a:off x="4438440" y="4267080"/>
            <a:ext cx="3791160" cy="2286000"/>
            <a:chOff x="4438440" y="4267080"/>
            <a:chExt cx="3791160" cy="2286000"/>
          </a:xfrm>
        </p:grpSpPr>
        <p:sp>
          <p:nvSpPr>
            <p:cNvPr id="590" name=""/>
            <p:cNvSpPr/>
            <p:nvPr/>
          </p:nvSpPr>
          <p:spPr>
            <a:xfrm>
              <a:off x="6553080" y="4647960"/>
              <a:ext cx="1676520" cy="190512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438440" y="4267080"/>
              <a:ext cx="20145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reversa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38960" y="4736880"/>
              <a:ext cx="342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language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defined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762120" y="4572000"/>
            <a:ext cx="2286000" cy="2057400"/>
            <a:chOff x="762120" y="4572000"/>
            <a:chExt cx="2286000" cy="2057400"/>
          </a:xfrm>
        </p:grpSpPr>
        <p:sp>
          <p:nvSpPr>
            <p:cNvPr id="597" name=""/>
            <p:cNvSpPr/>
            <p:nvPr/>
          </p:nvSpPr>
          <p:spPr>
            <a:xfrm>
              <a:off x="1676520" y="4572000"/>
              <a:ext cx="1371600" cy="20574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2120" y="472428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447920" y="502920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905120" y="49528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905120" y="56386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609480" y="3200400"/>
            <a:ext cx="7848720" cy="1038600"/>
            <a:chOff x="609480" y="3200400"/>
            <a:chExt cx="7848720" cy="1038600"/>
          </a:xfrm>
        </p:grpSpPr>
        <p:sp>
          <p:nvSpPr>
            <p:cNvPr id="603" name=""/>
            <p:cNvSpPr/>
            <p:nvPr/>
          </p:nvSpPr>
          <p:spPr>
            <a:xfrm>
              <a:off x="609480" y="320040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1, 0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09480" y="365760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eversa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3124080" y="49528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(     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715720" y="495288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1905120" y="4952880"/>
            <a:ext cx="3332880" cy="581400"/>
            <a:chOff x="1905120" y="4952880"/>
            <a:chExt cx="3332880" cy="581400"/>
          </a:xfrm>
        </p:grpSpPr>
        <p:sp>
          <p:nvSpPr>
            <p:cNvPr id="608" name=""/>
            <p:cNvSpPr/>
            <p:nvPr/>
          </p:nvSpPr>
          <p:spPr>
            <a:xfrm>
              <a:off x="4649040" y="4952880"/>
              <a:ext cx="58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90512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5791320" y="4952880"/>
            <a:ext cx="2057400" cy="581400"/>
            <a:chOff x="5791320" y="4952880"/>
            <a:chExt cx="2057400" cy="581400"/>
          </a:xfrm>
        </p:grpSpPr>
        <p:sp>
          <p:nvSpPr>
            <p:cNvPr id="611" name=""/>
            <p:cNvSpPr/>
            <p:nvPr/>
          </p:nvSpPr>
          <p:spPr>
            <a:xfrm>
              <a:off x="6934320" y="49528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791320" y="50292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312408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(     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715360" y="5638680"/>
            <a:ext cx="7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cc66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1905120" y="5638680"/>
            <a:ext cx="3460320" cy="581400"/>
            <a:chOff x="1905120" y="5638680"/>
            <a:chExt cx="3460320" cy="581400"/>
          </a:xfrm>
        </p:grpSpPr>
        <p:sp>
          <p:nvSpPr>
            <p:cNvPr id="616" name=""/>
            <p:cNvSpPr/>
            <p:nvPr/>
          </p:nvSpPr>
          <p:spPr>
            <a:xfrm>
              <a:off x="4572360" y="5638680"/>
              <a:ext cx="79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905120" y="5867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5791320" y="5638680"/>
            <a:ext cx="2057400" cy="581400"/>
            <a:chOff x="5791320" y="5638680"/>
            <a:chExt cx="2057400" cy="581400"/>
          </a:xfrm>
        </p:grpSpPr>
        <p:sp>
          <p:nvSpPr>
            <p:cNvPr id="619" name=""/>
            <p:cNvSpPr/>
            <p:nvPr/>
          </p:nvSpPr>
          <p:spPr>
            <a:xfrm>
              <a:off x="6934320" y="56386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91320" y="57150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ersal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eversa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eversa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8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500"/>
                            </p:stCondLst>
                            <p:childTnLst>
                              <p:par>
                                <p:cTn id="65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685800" y="19051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62120" y="1828800"/>
            <a:ext cx="777240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 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defined as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191120" y="4038480"/>
            <a:ext cx="3123720" cy="2638800"/>
            <a:chOff x="4191120" y="4038480"/>
            <a:chExt cx="3123720" cy="2638800"/>
          </a:xfrm>
        </p:grpSpPr>
        <p:sp>
          <p:nvSpPr>
            <p:cNvPr id="628" name=""/>
            <p:cNvSpPr/>
            <p:nvPr/>
          </p:nvSpPr>
          <p:spPr>
            <a:xfrm>
              <a:off x="4191120" y="4038480"/>
              <a:ext cx="3047760" cy="19814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 flipV="1">
              <a:off x="6476760" y="58669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715000" y="6095880"/>
              <a:ext cx="159984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4876920" y="4267080"/>
            <a:ext cx="6094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105520" y="428004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876920" y="49528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092560" y="4965840"/>
            <a:ext cx="6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867280" y="42670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248520" y="428004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15000" y="4952880"/>
            <a:ext cx="9144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108840" y="496584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3800" y="5334120"/>
            <a:ext cx="16002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91520" y="3733920"/>
            <a:ext cx="1143000" cy="2971800"/>
            <a:chOff x="7391520" y="3733920"/>
            <a:chExt cx="1143000" cy="2971800"/>
          </a:xfrm>
        </p:grpSpPr>
        <p:sp>
          <p:nvSpPr>
            <p:cNvPr id="641" name=""/>
            <p:cNvSpPr/>
            <p:nvPr/>
          </p:nvSpPr>
          <p:spPr>
            <a:xfrm>
              <a:off x="7391520" y="4648320"/>
              <a:ext cx="1143000" cy="20574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696080" y="373392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001000" y="434340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0120" y="502920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620120" y="571500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0" y="4419720"/>
            <a:ext cx="33526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2057400" y="4495680"/>
            <a:ext cx="3352680" cy="2181600"/>
            <a:chOff x="2057400" y="4495680"/>
            <a:chExt cx="3352680" cy="2181600"/>
          </a:xfrm>
        </p:grpSpPr>
        <p:sp>
          <p:nvSpPr>
            <p:cNvPr id="648" name=""/>
            <p:cNvSpPr/>
            <p:nvPr/>
          </p:nvSpPr>
          <p:spPr>
            <a:xfrm>
              <a:off x="2057400" y="4495680"/>
              <a:ext cx="1523880" cy="19047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733920" y="6095880"/>
              <a:ext cx="16761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81280" y="5638680"/>
              <a:ext cx="6098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2438280" y="4800600"/>
            <a:ext cx="76212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438280" y="5486400"/>
            <a:ext cx="76212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66688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819520" y="54864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2438280" y="4800600"/>
            <a:ext cx="762120" cy="1267200"/>
            <a:chOff x="2438280" y="4800600"/>
            <a:chExt cx="762120" cy="1267200"/>
          </a:xfrm>
        </p:grpSpPr>
        <p:sp>
          <p:nvSpPr>
            <p:cNvPr id="656" name=""/>
            <p:cNvSpPr/>
            <p:nvPr/>
          </p:nvSpPr>
          <p:spPr>
            <a:xfrm>
              <a:off x="2438280" y="4800600"/>
              <a:ext cx="76212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38280" y="5486400"/>
              <a:ext cx="76212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0" y="5334120"/>
            <a:ext cx="14479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762120" y="4572000"/>
            <a:ext cx="838080" cy="2057400"/>
            <a:chOff x="762120" y="4572000"/>
            <a:chExt cx="838080" cy="2057400"/>
          </a:xfrm>
        </p:grpSpPr>
        <p:sp>
          <p:nvSpPr>
            <p:cNvPr id="660" name=""/>
            <p:cNvSpPr/>
            <p:nvPr/>
          </p:nvSpPr>
          <p:spPr>
            <a:xfrm>
              <a:off x="762120" y="5562720"/>
              <a:ext cx="838080" cy="10666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8080" y="457200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143000" y="5181480"/>
              <a:ext cx="763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990720" y="5791320"/>
              <a:ext cx="38088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wer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= LL…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rot="5400000">
            <a:off x="3009240" y="952200"/>
            <a:ext cx="76320" cy="1219320"/>
          </a:xfrm>
          <a:custGeom>
            <a:avLst/>
            <a:gdLst>
              <a:gd name="textAreaLeft" fmla="*/ 0 w 76320"/>
              <a:gd name="textAreaRight" fmla="*/ 27360 w 763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514600" y="1523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685800" y="3352680"/>
            <a:ext cx="7848720" cy="1038600"/>
            <a:chOff x="685800" y="3352680"/>
            <a:chExt cx="7848720" cy="1038600"/>
          </a:xfrm>
        </p:grpSpPr>
        <p:sp>
          <p:nvSpPr>
            <p:cNvPr id="670" name=""/>
            <p:cNvSpPr/>
            <p:nvPr/>
          </p:nvSpPr>
          <p:spPr>
            <a:xfrm>
              <a:off x="685800" y="33526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85800" y="3809880"/>
              <a:ext cx="32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685800" y="198108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" y="1905120"/>
            <a:ext cx="815328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be a language over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.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iterat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and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positive iterat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re defined as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330800" y="2603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267080" y="3200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019920" y="2590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969160" y="31878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33520" y="35812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647640" y="4038480"/>
            <a:ext cx="7848720" cy="1419480"/>
            <a:chOff x="647640" y="4038480"/>
            <a:chExt cx="7848720" cy="1419480"/>
          </a:xfrm>
        </p:grpSpPr>
        <p:sp>
          <p:nvSpPr>
            <p:cNvPr id="681" name=""/>
            <p:cNvSpPr/>
            <p:nvPr/>
          </p:nvSpPr>
          <p:spPr>
            <a:xfrm>
              <a:off x="647640" y="40384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47640" y="4876560"/>
              <a:ext cx="35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nd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7640" y="4419360"/>
              <a:ext cx="685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over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0, 1}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685800" y="5334120"/>
            <a:ext cx="8077320" cy="1343160"/>
            <a:chOff x="685800" y="5334120"/>
            <a:chExt cx="8077320" cy="1343160"/>
          </a:xfrm>
        </p:grpSpPr>
        <p:grpSp>
          <p:nvGrpSpPr>
            <p:cNvPr id="685" name=""/>
            <p:cNvGrpSpPr/>
            <p:nvPr/>
          </p:nvGrpSpPr>
          <p:grpSpPr>
            <a:xfrm>
              <a:off x="685800" y="5334120"/>
              <a:ext cx="7696080" cy="581400"/>
              <a:chOff x="685800" y="5334120"/>
              <a:chExt cx="7696080" cy="581400"/>
            </a:xfrm>
          </p:grpSpPr>
          <p:sp>
            <p:nvSpPr>
              <p:cNvPr id="686" name=""/>
              <p:cNvSpPr/>
              <p:nvPr/>
            </p:nvSpPr>
            <p:spPr>
              <a:xfrm>
                <a:off x="685800" y="5334120"/>
                <a:ext cx="17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057400" y="5334120"/>
                <a:ext cx="3048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038480" y="5334120"/>
                <a:ext cx="434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 ..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>
              <a:off x="685800" y="571500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0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…=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… }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85800" y="609588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       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…=    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… }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eration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10666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is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=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Part I.</a:t>
            </a:r>
            <a:br>
              <a:rPr sz="6000"/>
            </a:b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Alphabets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Strings,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and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295280"/>
            <a:ext cx="7772400" cy="1143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phabets and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295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, nonempty set of elements, which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85800" y="2590920"/>
            <a:ext cx="7924680" cy="3187440"/>
            <a:chOff x="685800" y="2590920"/>
            <a:chExt cx="7924680" cy="3187440"/>
          </a:xfrm>
        </p:grpSpPr>
        <p:grpSp>
          <p:nvGrpSpPr>
            <p:cNvPr id="51" name=""/>
            <p:cNvGrpSpPr/>
            <p:nvPr/>
          </p:nvGrpSpPr>
          <p:grpSpPr>
            <a:xfrm>
              <a:off x="685800" y="2590920"/>
              <a:ext cx="7696080" cy="2514600"/>
              <a:chOff x="685800" y="2590920"/>
              <a:chExt cx="7696080" cy="2514600"/>
            </a:xfrm>
          </p:grpSpPr>
          <p:sp>
            <p:nvSpPr>
              <p:cNvPr id="52" name=""/>
              <p:cNvSpPr/>
              <p:nvPr/>
            </p:nvSpPr>
            <p:spPr>
              <a:xfrm>
                <a:off x="990720" y="3353040"/>
                <a:ext cx="4876560" cy="17524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52480" y="411516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90920" y="381024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429000" y="358164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43400" y="365796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95880" y="3353040"/>
                <a:ext cx="228600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Alphabe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 flipV="1">
                <a:off x="2438280" y="4648320"/>
                <a:ext cx="36576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95880" y="4496040"/>
                <a:ext cx="228600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Symbol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 flipV="1">
                <a:off x="3200040" y="4495680"/>
                <a:ext cx="28954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 flipV="1">
                <a:off x="3657240" y="4267440"/>
                <a:ext cx="243828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 flipV="1">
                <a:off x="4876920" y="4343760"/>
                <a:ext cx="12189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5562720" y="3657600"/>
                <a:ext cx="5331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85800" y="2590920"/>
                <a:ext cx="1905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Example: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838080" y="525780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f we denote this alphabet as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then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0, 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1752480"/>
            <a:ext cx="7772400" cy="19051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334120" y="4419720"/>
            <a:ext cx="1143000" cy="1981080"/>
            <a:chOff x="5334120" y="4419720"/>
            <a:chExt cx="1143000" cy="1981080"/>
          </a:xfrm>
        </p:grpSpPr>
        <p:sp>
          <p:nvSpPr>
            <p:cNvPr id="70" name=""/>
            <p:cNvSpPr/>
            <p:nvPr/>
          </p:nvSpPr>
          <p:spPr>
            <a:xfrm>
              <a:off x="5562720" y="57913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62720" y="53341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62720" y="48769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62720" y="44197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4120" y="64008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477120" y="4648320"/>
              <a:ext cx="0" cy="17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6248160" y="4648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624816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24816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248160" y="6019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191120" y="4876920"/>
            <a:ext cx="685800" cy="1218240"/>
            <a:chOff x="4191120" y="4876920"/>
            <a:chExt cx="685800" cy="1218240"/>
          </a:xfrm>
        </p:grpSpPr>
        <p:sp>
          <p:nvSpPr>
            <p:cNvPr id="81" name=""/>
            <p:cNvSpPr/>
            <p:nvPr/>
          </p:nvSpPr>
          <p:spPr>
            <a:xfrm>
              <a:off x="4191120" y="5333760"/>
              <a:ext cx="457200" cy="4568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91120" y="4876920"/>
              <a:ext cx="457200" cy="4568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876920" y="5181120"/>
              <a:ext cx="0" cy="9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4647960" y="5181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64796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85800" y="167652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n alphab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ring over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ring over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39625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600200" y="5029200"/>
            <a:ext cx="3733920" cy="1587600"/>
            <a:chOff x="1600200" y="5029200"/>
            <a:chExt cx="3733920" cy="1587600"/>
          </a:xfrm>
        </p:grpSpPr>
        <p:sp>
          <p:nvSpPr>
            <p:cNvPr id="89" name=""/>
            <p:cNvSpPr/>
            <p:nvPr/>
          </p:nvSpPr>
          <p:spPr>
            <a:xfrm>
              <a:off x="1600200" y="5029200"/>
              <a:ext cx="609480" cy="53352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71800" y="6096240"/>
              <a:ext cx="236232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Is string over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57400" y="5562720"/>
              <a:ext cx="9144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477120" y="4419720"/>
            <a:ext cx="2361960" cy="2303640"/>
            <a:chOff x="6477120" y="4419720"/>
            <a:chExt cx="2361960" cy="2303640"/>
          </a:xfrm>
        </p:grpSpPr>
        <p:grpSp>
          <p:nvGrpSpPr>
            <p:cNvPr id="93" name=""/>
            <p:cNvGrpSpPr/>
            <p:nvPr/>
          </p:nvGrpSpPr>
          <p:grpSpPr>
            <a:xfrm>
              <a:off x="6477120" y="5105520"/>
              <a:ext cx="1676160" cy="1295280"/>
              <a:chOff x="6477120" y="5105520"/>
              <a:chExt cx="1676160" cy="1295280"/>
            </a:xfrm>
          </p:grpSpPr>
          <p:sp>
            <p:nvSpPr>
              <p:cNvPr id="94" name=""/>
              <p:cNvSpPr/>
              <p:nvPr/>
            </p:nvSpPr>
            <p:spPr>
              <a:xfrm>
                <a:off x="7086600" y="5639040"/>
                <a:ext cx="838080" cy="53316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086600" y="5105520"/>
                <a:ext cx="838080" cy="53352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477120" y="6400800"/>
                <a:ext cx="1676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8153280" y="533376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7924320" y="53341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7924320" y="59436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7315200" y="4419720"/>
              <a:ext cx="1523880" cy="2303640"/>
              <a:chOff x="7315200" y="4419720"/>
              <a:chExt cx="1523880" cy="2303640"/>
            </a:xfrm>
          </p:grpSpPr>
          <p:sp>
            <p:nvSpPr>
              <p:cNvPr id="101" name=""/>
              <p:cNvSpPr/>
              <p:nvPr/>
            </p:nvSpPr>
            <p:spPr>
              <a:xfrm>
                <a:off x="7315200" y="4419720"/>
                <a:ext cx="4572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315200" y="5943600"/>
                <a:ext cx="4572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153280" y="5029200"/>
                <a:ext cx="685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"/>
          <p:cNvSpPr/>
          <p:nvPr/>
        </p:nvSpPr>
        <p:spPr>
          <a:xfrm>
            <a:off x="1676520" y="4952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5638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657600" y="4800600"/>
            <a:ext cx="990720" cy="1038600"/>
            <a:chOff x="3657600" y="4800600"/>
            <a:chExt cx="990720" cy="1038600"/>
          </a:xfrm>
        </p:grpSpPr>
        <p:sp>
          <p:nvSpPr>
            <p:cNvPr id="108" name=""/>
            <p:cNvSpPr/>
            <p:nvPr/>
          </p:nvSpPr>
          <p:spPr>
            <a:xfrm>
              <a:off x="3657600" y="4800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57600" y="52578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352680" y="5257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3581280"/>
            <a:ext cx="800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empty strin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at contains no symbo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09680" y="4800600"/>
            <a:ext cx="1371600" cy="1038600"/>
            <a:chOff x="2209680" y="4800600"/>
            <a:chExt cx="1371600" cy="1038600"/>
          </a:xfrm>
        </p:grpSpPr>
        <p:sp>
          <p:nvSpPr>
            <p:cNvPr id="114" name=""/>
            <p:cNvSpPr/>
            <p:nvPr/>
          </p:nvSpPr>
          <p:spPr>
            <a:xfrm>
              <a:off x="312408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2408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2209680" y="5105160"/>
              <a:ext cx="990720" cy="152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09680" y="5410440"/>
              <a:ext cx="990720" cy="152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648320" y="4343400"/>
            <a:ext cx="1371600" cy="1038600"/>
            <a:chOff x="4648320" y="4343400"/>
            <a:chExt cx="1371600" cy="1038600"/>
          </a:xfrm>
        </p:grpSpPr>
        <p:sp>
          <p:nvSpPr>
            <p:cNvPr id="119" name=""/>
            <p:cNvSpPr/>
            <p:nvPr/>
          </p:nvSpPr>
          <p:spPr>
            <a:xfrm>
              <a:off x="55627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62720" y="4343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48320" y="5105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648320" y="46483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648320" y="5257800"/>
            <a:ext cx="1371600" cy="1038600"/>
            <a:chOff x="4648320" y="5257800"/>
            <a:chExt cx="1371600" cy="1038600"/>
          </a:xfrm>
        </p:grpSpPr>
        <p:sp>
          <p:nvSpPr>
            <p:cNvPr id="124" name=""/>
            <p:cNvSpPr/>
            <p:nvPr/>
          </p:nvSpPr>
          <p:spPr>
            <a:xfrm>
              <a:off x="5562720" y="57150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6272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8320" y="55627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48320" y="5715000"/>
              <a:ext cx="914400" cy="3049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791320" y="4343400"/>
            <a:ext cx="457200" cy="1495800"/>
            <a:chOff x="5791320" y="4343400"/>
            <a:chExt cx="457200" cy="1495800"/>
          </a:xfrm>
        </p:grpSpPr>
        <p:sp>
          <p:nvSpPr>
            <p:cNvPr id="129" name=""/>
            <p:cNvSpPr/>
            <p:nvPr/>
          </p:nvSpPr>
          <p:spPr>
            <a:xfrm>
              <a:off x="5791320" y="4343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9132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791320" y="4800600"/>
            <a:ext cx="457200" cy="1495800"/>
            <a:chOff x="5791320" y="4800600"/>
            <a:chExt cx="457200" cy="1495800"/>
          </a:xfrm>
        </p:grpSpPr>
        <p:sp>
          <p:nvSpPr>
            <p:cNvPr id="132" name=""/>
            <p:cNvSpPr/>
            <p:nvPr/>
          </p:nvSpPr>
          <p:spPr>
            <a:xfrm>
              <a:off x="57913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91320" y="57150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248520" y="5105520"/>
            <a:ext cx="1447560" cy="1114920"/>
            <a:chOff x="6248520" y="5105520"/>
            <a:chExt cx="1447560" cy="1114920"/>
          </a:xfrm>
        </p:grpSpPr>
        <p:sp>
          <p:nvSpPr>
            <p:cNvPr id="135" name=""/>
            <p:cNvSpPr/>
            <p:nvPr/>
          </p:nvSpPr>
          <p:spPr>
            <a:xfrm>
              <a:off x="7010280" y="51055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248520" y="5410080"/>
              <a:ext cx="838080" cy="759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48520" y="5639040"/>
              <a:ext cx="838080" cy="2286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10280" y="56390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7467480" y="5105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1880" y="5905440"/>
            <a:ext cx="762120" cy="916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29600" y="5791320"/>
            <a:ext cx="9144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3809880" y="5943600"/>
            <a:ext cx="4114800" cy="642600"/>
            <a:chOff x="3809880" y="5943600"/>
            <a:chExt cx="4114800" cy="642600"/>
          </a:xfrm>
        </p:grpSpPr>
        <p:sp>
          <p:nvSpPr>
            <p:cNvPr id="146" name=""/>
            <p:cNvSpPr/>
            <p:nvPr/>
          </p:nvSpPr>
          <p:spPr>
            <a:xfrm>
              <a:off x="3809880" y="6172200"/>
              <a:ext cx="304920" cy="30492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14800" y="63244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594360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4, thus 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| = 4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85800" y="1784520"/>
            <a:ext cx="7772400" cy="2438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752480"/>
            <a:ext cx="807732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s defined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4191120"/>
            <a:ext cx="769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e length of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the number of all symbols in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572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1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54864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= 1 0 1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0920" y="5867280"/>
            <a:ext cx="1600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ngth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|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|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75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75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17524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6765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ncaten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66688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09480" y="3200400"/>
            <a:ext cx="8229600" cy="1572120"/>
            <a:chOff x="609480" y="3200400"/>
            <a:chExt cx="8229600" cy="1572120"/>
          </a:xfrm>
        </p:grpSpPr>
        <p:sp>
          <p:nvSpPr>
            <p:cNvPr id="164" name=""/>
            <p:cNvSpPr/>
            <p:nvPr/>
          </p:nvSpPr>
          <p:spPr>
            <a:xfrm>
              <a:off x="609480" y="320040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s: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9480" y="373392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oncatenation of 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9480" y="419112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oncatenation of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atenation of St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19051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8288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,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th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33526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38862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380988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47242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60958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5181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8148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10080" y="51814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4648320"/>
            <a:ext cx="22096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43400" y="6019920"/>
            <a:ext cx="9144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4038120" y="556272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114800" y="5486400"/>
            <a:ext cx="13716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3885840" y="5105520"/>
            <a:ext cx="160020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886200" y="5029200"/>
            <a:ext cx="18288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5029200"/>
            <a:ext cx="482760" cy="4572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5562720"/>
            <a:ext cx="482760" cy="4572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6095880"/>
            <a:ext cx="482760" cy="38124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6172200"/>
            <a:ext cx="1003320" cy="317520"/>
          </a:xfrm>
          <a:custGeom>
            <a:avLst/>
            <a:gdLst/>
            <a:ahLst/>
            <a:rect l="l" t="t" r="r" b="b"/>
            <a:pathLst>
              <a:path w="632" h="200">
                <a:moveTo>
                  <a:pt x="0" y="192"/>
                </a:moveTo>
                <a:cubicBezTo>
                  <a:pt x="144" y="196"/>
                  <a:pt x="288" y="200"/>
                  <a:pt x="384" y="192"/>
                </a:cubicBezTo>
                <a:cubicBezTo>
                  <a:pt x="480" y="184"/>
                  <a:pt x="536" y="168"/>
                  <a:pt x="576" y="144"/>
                </a:cubicBezTo>
                <a:cubicBezTo>
                  <a:pt x="616" y="120"/>
                  <a:pt x="616" y="72"/>
                  <a:pt x="624" y="48"/>
                </a:cubicBezTo>
                <a:cubicBezTo>
                  <a:pt x="632" y="24"/>
                  <a:pt x="628" y="12"/>
                  <a:pt x="6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wer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= xx…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2895480" y="1066680"/>
            <a:ext cx="76320" cy="990720"/>
          </a:xfrm>
          <a:custGeom>
            <a:avLst/>
            <a:gdLst>
              <a:gd name="textAreaLeft" fmla="*/ 0 w 76320"/>
              <a:gd name="textAreaRight" fmla="*/ 2736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523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1752480"/>
            <a:ext cx="7772400" cy="2438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676520"/>
            <a:ext cx="784872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al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reversal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43434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versal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525780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reversal(           ) =        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352680" y="5334120"/>
            <a:ext cx="3429000" cy="648720"/>
            <a:chOff x="3352680" y="5334120"/>
            <a:chExt cx="3429000" cy="648720"/>
          </a:xfrm>
        </p:grpSpPr>
        <p:sp>
          <p:nvSpPr>
            <p:cNvPr id="202" name=""/>
            <p:cNvSpPr/>
            <p:nvPr/>
          </p:nvSpPr>
          <p:spPr>
            <a:xfrm>
              <a:off x="61722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5268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3657600" y="5334120"/>
            <a:ext cx="2808000" cy="648720"/>
            <a:chOff x="3657600" y="5334120"/>
            <a:chExt cx="2808000" cy="648720"/>
          </a:xfrm>
        </p:grpSpPr>
        <p:sp>
          <p:nvSpPr>
            <p:cNvPr id="205" name=""/>
            <p:cNvSpPr/>
            <p:nvPr/>
          </p:nvSpPr>
          <p:spPr>
            <a:xfrm>
              <a:off x="585612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576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986280" y="5334120"/>
            <a:ext cx="2161800" cy="648720"/>
            <a:chOff x="3986280" y="5334120"/>
            <a:chExt cx="2161800" cy="648720"/>
          </a:xfrm>
        </p:grpSpPr>
        <p:sp>
          <p:nvSpPr>
            <p:cNvPr id="208" name=""/>
            <p:cNvSpPr/>
            <p:nvPr/>
          </p:nvSpPr>
          <p:spPr>
            <a:xfrm>
              <a:off x="398628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386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319640" y="5334120"/>
            <a:ext cx="1500120" cy="650160"/>
            <a:chOff x="4319640" y="5334120"/>
            <a:chExt cx="1500120" cy="650160"/>
          </a:xfrm>
        </p:grpSpPr>
        <p:sp>
          <p:nvSpPr>
            <p:cNvPr id="211" name=""/>
            <p:cNvSpPr/>
            <p:nvPr/>
          </p:nvSpPr>
          <p:spPr>
            <a:xfrm>
              <a:off x="4319640" y="533556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09920" y="5334120"/>
              <a:ext cx="6098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752480" y="579132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reversal(           ) =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352680" y="5867280"/>
            <a:ext cx="3429000" cy="581400"/>
            <a:chOff x="3352680" y="5867280"/>
            <a:chExt cx="3429000" cy="581400"/>
          </a:xfrm>
        </p:grpSpPr>
        <p:sp>
          <p:nvSpPr>
            <p:cNvPr id="215" name=""/>
            <p:cNvSpPr/>
            <p:nvPr/>
          </p:nvSpPr>
          <p:spPr>
            <a:xfrm>
              <a:off x="61722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5268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657600" y="5867280"/>
            <a:ext cx="2808000" cy="581400"/>
            <a:chOff x="3657600" y="5867280"/>
            <a:chExt cx="2808000" cy="581400"/>
          </a:xfrm>
        </p:grpSpPr>
        <p:sp>
          <p:nvSpPr>
            <p:cNvPr id="218" name=""/>
            <p:cNvSpPr/>
            <p:nvPr/>
          </p:nvSpPr>
          <p:spPr>
            <a:xfrm>
              <a:off x="585612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576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986280" y="5867280"/>
            <a:ext cx="2161800" cy="581400"/>
            <a:chOff x="3986280" y="5867280"/>
            <a:chExt cx="2161800" cy="581400"/>
          </a:xfrm>
        </p:grpSpPr>
        <p:sp>
          <p:nvSpPr>
            <p:cNvPr id="221" name=""/>
            <p:cNvSpPr/>
            <p:nvPr/>
          </p:nvSpPr>
          <p:spPr>
            <a:xfrm>
              <a:off x="398628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386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4343400" y="5867280"/>
            <a:ext cx="1500120" cy="582840"/>
            <a:chOff x="4343400" y="5867280"/>
            <a:chExt cx="1500120" cy="582840"/>
          </a:xfrm>
        </p:grpSpPr>
        <p:sp>
          <p:nvSpPr>
            <p:cNvPr id="224" name=""/>
            <p:cNvSpPr/>
            <p:nvPr/>
          </p:nvSpPr>
          <p:spPr>
            <a:xfrm>
              <a:off x="4343400" y="5868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33680" y="58672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ersal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eversal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8-10T13:56:08Z</dcterms:modified>
  <cp:revision>151</cp:revision>
  <dc:subject/>
  <dc:title>Alphabets, Strings, and Languages</dc:title>
</cp:coreProperties>
</file>