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355-A8AD-4785-B780-C6304282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75E-6269-4D02-B637-7137B620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0B8-C88A-446D-9143-E1778863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356-FAC0-4428-A5A4-DB70AFB8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72D-5278-4B57-B710-41B86415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C59-DCD5-40ED-9893-C47AD81B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06C-AF8F-4DF0-9CBE-7F695AD7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54C-1930-4827-A080-A6C90E2A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D3D-D364-46CC-B322-D73661B6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270-16F7-479C-BAE4-5CA68B4E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2C1-8EF9-43F1-9CE8-DFFCF893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74A-07F8-410A-81D1-FD9A2474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E285-171F-45A7-959B-E8EEF4305B4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58Z</dcterms:modified>
  <cp:revision>130</cp:revision>
  <dc:subject/>
  <dc:title>Variants of Finite Automata</dc:title>
</cp:coreProperties>
</file>