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6A0-C99A-40D7-A0E9-15F28D37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4BF-4C24-4367-8654-7EF6E5CD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8A0-15CB-4BEE-8E31-97BE353F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FD2-0286-45FE-9CA4-AD5F7639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1C3-631D-452B-A553-5F18591E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501-7288-4AE4-A775-A3AC0487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215-F739-4794-BE77-696BA59B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599-7AFF-4937-8414-B6DAA66B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5A1-BF72-407A-851A-99EEF242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702-31A6-4A72-8F61-791118E6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330-5B49-4C02-97ED-6C6F27F5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BCB-1756-474E-B271-EAC1F379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4F2F-1992-4D2C-ABC7-ECD937276E5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rezentace k disertačním tezí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8006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idlově synchronizovan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8001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ravid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239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246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253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25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260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27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283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288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293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lavní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153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Generativní síla těchto systémů (už 2-MGR, 2-MGN) je rovna síle Turingova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e disertační práce,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777240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1) Prostudování stávajících typů gramatických systém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2) Zavedení nových gramatických systémů simulující multigenerován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3) Určení generativní síly těchto nových gramatických systémů a vztahu mezi s sebou navzáj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) Vhodné omezení těchto gramatických systémů, aby byly použitelné v praxi + aplik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50292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12193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579800" y="300924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ávajíc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nova prezen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) Úvod do dané problematik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řechod od gramatiky ke gramatickému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) Samotný výzk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Zavedení 2 typů multigenerativních gramatických systému (MG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ivní síla těchto M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) Cíle disertační prá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gramatických systé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120" y="1066680"/>
            <a:ext cx="46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atika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209680"/>
            <a:ext cx="80010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atický systé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zkontextová gramatik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pro všech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nožina „pravidel“ pro „řízení generování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5880"/>
            <a:ext cx="807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ovaný multiřetězec v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687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259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1664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14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572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Paralelní gener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549108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98240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452592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135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kontr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8604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8322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19320"/>
            <a:ext cx="80010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ech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 G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jazyk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generovaný pomocí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vá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pro všechna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</a:t>
            </a: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-jazyku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ustr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jazyků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tandardní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tvoří řetězce generované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rvní gramati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vý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429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je tvořen pomocí řetězců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všech gramat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 operací nad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říklady takovýchto oper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Operace „sjednoce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952880"/>
            <a:ext cx="76176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952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Operace „konkaten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94360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943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943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133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110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rola derivac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119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ora multifor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nových dvou typů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symbol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prav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Nonterminálově synchronizovaný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0010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á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17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17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18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19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20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21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21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21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6-06T07:01:58Z</dcterms:modified>
  <cp:revision>193</cp:revision>
  <dc:subject/>
  <dc:title>Formal Languages and Compilers</dc:title>
</cp:coreProperties>
</file>