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C2F-8D61-486A-B438-AB0D21A6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55D-075A-4932-A2BD-0DD9BDF1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340-6023-4499-9E92-B9A1335C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2EB-DFF3-49E9-8EF9-6A750CC7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226-C27B-45F3-B807-D4B384CC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994-6C34-444F-835A-0BAAC73C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D9C-E9CC-48E3-808D-F69FD65D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21F-B7DC-461F-BC19-8508EA40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9DD-119C-4998-A6EB-3A10CA51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8DC-3EA3-4D52-8DE0-7FE5DB08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4AA-23F3-4B18-AD57-C401D854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67A-A6E0-4179-8BBA-0061041E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3080-C5D7-45F0-9601-72251888985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3:26Z</dcterms:modified>
  <cp:revision>184</cp:revision>
  <dc:subject/>
  <dc:title>Models for Context-Free Languages</dc:title>
</cp:coreProperties>
</file>