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7AB-0E2C-4E93-984F-E0197DE0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785-F507-429C-951D-381516F1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F218-BD36-408E-9706-22EFD8C2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8F1-1617-4192-8911-E08AA7A0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AFD-2CA0-4E01-8F7E-72D818CF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1DE-66E5-45AB-B47C-AE413C91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350-6812-4A6B-8ED3-8E8C48EC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F9D-ADD1-4C34-AF6E-5D52F2C1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FBC1-77AD-4981-A183-4BB7F2EF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2C1-FB70-43CF-A11C-551F872D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753-6151-4576-B178-832B7890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8B3-935D-4DBD-81ED-DC623CCE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C9A5-5FA7-49DC-92A7-90BAB71F555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343400"/>
            <a:ext cx="6324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Alexander Meduna 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Roman Luk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2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5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9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2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6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9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3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6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7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1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9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8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219320"/>
            <a:ext cx="807732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MGR is defined analogically as the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MG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2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5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8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9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2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5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6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9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3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6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1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6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1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6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MGN to equivalent 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M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57800" y="52578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62520" y="5562720"/>
            <a:ext cx="7596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6019920"/>
            <a:ext cx="251460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91320" y="6019920"/>
            <a:ext cx="259056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943240" y="5410080"/>
            <a:ext cx="6858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1143000"/>
            <a:ext cx="7772400" cy="31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 the language families defined by MGN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 and MGR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MGR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MGN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14800" y="51055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43400" y="4724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4876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8148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943600" y="4952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41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053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51055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4952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3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2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4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ftmo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10-23T18:01:41Z</dcterms:modified>
  <cp:revision>192</cp:revision>
  <dc:subject/>
  <dc:title>Formal Languages and Compilers</dc:title>
</cp:coreProperties>
</file>