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7D2-7D29-487E-9138-8C955993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744-7458-4604-A207-E6D92273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49A-AD0C-49C4-99C2-01A5F726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9F8-D18F-4C79-ADAA-07CB94AC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D92-1597-4127-BDB2-1A049C26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581-45FA-43A5-A762-9BE85206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7FE-DBCD-4398-BC9D-A58151A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C2E-2042-4DD2-B6CA-6EE84597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205-F1CC-4BCF-8A36-08C8D040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D75-82FB-450E-A56E-564BB14F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720-8C6D-42E4-94B6-1C9BDFA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FC2-6252-4998-9716-97FEAC88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04C8-6003-4C6A-B82A-9DFEE51EE18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18:05Z</dcterms:modified>
  <cp:revision>191</cp:revision>
  <dc:subject/>
  <dc:title>Normal Forms and Properties of CFLs</dc:title>
</cp:coreProperties>
</file>