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32600" cy="9391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97B7-FDC9-4667-A47D-8842646A8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53F9-7794-4CD0-BE5E-1E2F17575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2277-E833-4EF7-BBD3-7AA1335A0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A848-D85C-48BB-86C7-79A2EE7D7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333F-8C25-4B95-9EDA-F53A3BFA2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6C60-AFF5-4E6F-B61D-AF6522691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02D4-5DFA-4BDC-93F7-A7812B531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4B91-D9B8-40A9-B0F8-D56F8720E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7AA0-3766-485C-A307-46B169E91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FA55-A877-48A0-AA73-E983B9441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5A3B-085B-4262-958E-B5A5A374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EDAD-7E90-4E6D-B9B0-5177FDB7E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0E0AA-0A02-4E6B-937E-9D8AE6218E26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1980720"/>
            <a:ext cx="78483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Multigenerative Grammar Systems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(MGS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"/>
          <p:cNvGrpSpPr/>
          <p:nvPr/>
        </p:nvGrpSpPr>
        <p:grpSpPr>
          <a:xfrm>
            <a:off x="5638680" y="4724280"/>
            <a:ext cx="2210040" cy="977760"/>
            <a:chOff x="5638680" y="4724280"/>
            <a:chExt cx="2210040" cy="977760"/>
          </a:xfrm>
        </p:grpSpPr>
        <p:sp>
          <p:nvSpPr>
            <p:cNvPr id="301" name=""/>
            <p:cNvSpPr/>
            <p:nvPr/>
          </p:nvSpPr>
          <p:spPr>
            <a:xfrm>
              <a:off x="7391520" y="4724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638680" y="4724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6095520" y="5181120"/>
              <a:ext cx="1296000" cy="520920"/>
              <a:chOff x="6095520" y="5181120"/>
              <a:chExt cx="1296000" cy="520920"/>
            </a:xfrm>
          </p:grpSpPr>
          <p:sp>
            <p:nvSpPr>
              <p:cNvPr id="304" name=""/>
              <p:cNvSpPr/>
              <p:nvPr/>
            </p:nvSpPr>
            <p:spPr>
              <a:xfrm>
                <a:off x="6324480" y="5181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 flipV="1">
                <a:off x="6095520" y="5181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7162920" y="5181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5638680" y="3581280"/>
            <a:ext cx="2210040" cy="977760"/>
            <a:chOff x="5638680" y="3581280"/>
            <a:chExt cx="2210040" cy="977760"/>
          </a:xfrm>
        </p:grpSpPr>
        <p:sp>
          <p:nvSpPr>
            <p:cNvPr id="308" name=""/>
            <p:cNvSpPr/>
            <p:nvPr/>
          </p:nvSpPr>
          <p:spPr>
            <a:xfrm>
              <a:off x="7391520" y="3581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638680" y="3581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6095520" y="4038120"/>
              <a:ext cx="1296000" cy="520920"/>
              <a:chOff x="6095520" y="4038120"/>
              <a:chExt cx="1296000" cy="520920"/>
            </a:xfrm>
          </p:grpSpPr>
          <p:sp>
            <p:nvSpPr>
              <p:cNvPr id="311" name=""/>
              <p:cNvSpPr/>
              <p:nvPr/>
            </p:nvSpPr>
            <p:spPr>
              <a:xfrm>
                <a:off x="6324480" y="4038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6095520" y="4038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V="1">
                <a:off x="7162920" y="4038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4" name=""/>
          <p:cNvGrpSpPr/>
          <p:nvPr/>
        </p:nvGrpSpPr>
        <p:grpSpPr>
          <a:xfrm>
            <a:off x="5638680" y="2438280"/>
            <a:ext cx="2210040" cy="977760"/>
            <a:chOff x="5638680" y="2438280"/>
            <a:chExt cx="2210040" cy="977760"/>
          </a:xfrm>
        </p:grpSpPr>
        <p:sp>
          <p:nvSpPr>
            <p:cNvPr id="315" name=""/>
            <p:cNvSpPr/>
            <p:nvPr/>
          </p:nvSpPr>
          <p:spPr>
            <a:xfrm>
              <a:off x="7391520" y="2438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638680" y="2438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7" name=""/>
            <p:cNvGrpSpPr/>
            <p:nvPr/>
          </p:nvGrpSpPr>
          <p:grpSpPr>
            <a:xfrm>
              <a:off x="6095520" y="2895120"/>
              <a:ext cx="1296000" cy="520920"/>
              <a:chOff x="6095520" y="2895120"/>
              <a:chExt cx="1296000" cy="520920"/>
            </a:xfrm>
          </p:grpSpPr>
          <p:sp>
            <p:nvSpPr>
              <p:cNvPr id="318" name=""/>
              <p:cNvSpPr/>
              <p:nvPr/>
            </p:nvSpPr>
            <p:spPr>
              <a:xfrm>
                <a:off x="6324480" y="2895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 flipV="1">
                <a:off x="6095520" y="2895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V="1">
                <a:off x="7162920" y="2895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1" name=""/>
          <p:cNvGrpSpPr/>
          <p:nvPr/>
        </p:nvGrpSpPr>
        <p:grpSpPr>
          <a:xfrm>
            <a:off x="5638680" y="1295280"/>
            <a:ext cx="2210040" cy="977760"/>
            <a:chOff x="5638680" y="1295280"/>
            <a:chExt cx="2210040" cy="977760"/>
          </a:xfrm>
        </p:grpSpPr>
        <p:sp>
          <p:nvSpPr>
            <p:cNvPr id="322" name=""/>
            <p:cNvSpPr/>
            <p:nvPr/>
          </p:nvSpPr>
          <p:spPr>
            <a:xfrm>
              <a:off x="7391520" y="1295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638680" y="1295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6095520" y="1752120"/>
              <a:ext cx="1296000" cy="520920"/>
              <a:chOff x="6095520" y="1752120"/>
              <a:chExt cx="1296000" cy="520920"/>
            </a:xfrm>
          </p:grpSpPr>
          <p:sp>
            <p:nvSpPr>
              <p:cNvPr id="325" name=""/>
              <p:cNvSpPr/>
              <p:nvPr/>
            </p:nvSpPr>
            <p:spPr>
              <a:xfrm>
                <a:off x="6324480" y="1752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 flipV="1">
                <a:off x="6095520" y="1752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7162920" y="1752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8" name="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403848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85800" y="182880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N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5800" y="1143000"/>
            <a:ext cx="4419720" cy="62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562720" y="1219320"/>
            <a:ext cx="2514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334120" y="1828800"/>
            <a:ext cx="3200400" cy="1182240"/>
            <a:chOff x="5334120" y="1828800"/>
            <a:chExt cx="3200400" cy="1182240"/>
          </a:xfrm>
        </p:grpSpPr>
        <p:sp>
          <p:nvSpPr>
            <p:cNvPr id="336" name=""/>
            <p:cNvSpPr/>
            <p:nvPr/>
          </p:nvSpPr>
          <p:spPr>
            <a:xfrm rot="5400000">
              <a:off x="565416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5400000">
              <a:off x="74062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334120" y="2362320"/>
              <a:ext cx="3200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5105520" y="2971800"/>
            <a:ext cx="3504960" cy="1182240"/>
            <a:chOff x="5105520" y="2971800"/>
            <a:chExt cx="3504960" cy="1182240"/>
          </a:xfrm>
        </p:grpSpPr>
        <p:sp>
          <p:nvSpPr>
            <p:cNvPr id="340" name=""/>
            <p:cNvSpPr/>
            <p:nvPr/>
          </p:nvSpPr>
          <p:spPr>
            <a:xfrm rot="5400000">
              <a:off x="5577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5400000">
              <a:off x="74062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105520" y="3505320"/>
              <a:ext cx="3504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4876920" y="4114800"/>
            <a:ext cx="3504960" cy="1182240"/>
            <a:chOff x="4876920" y="4114800"/>
            <a:chExt cx="3504960" cy="1182240"/>
          </a:xfrm>
        </p:grpSpPr>
        <p:sp>
          <p:nvSpPr>
            <p:cNvPr id="344" name=""/>
            <p:cNvSpPr/>
            <p:nvPr/>
          </p:nvSpPr>
          <p:spPr>
            <a:xfrm rot="5400000">
              <a:off x="5577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5400000">
              <a:off x="74062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876920" y="4648320"/>
              <a:ext cx="3504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b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d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5181480" y="5257800"/>
            <a:ext cx="3505320" cy="1182240"/>
            <a:chOff x="5181480" y="5257800"/>
            <a:chExt cx="3505320" cy="1182240"/>
          </a:xfrm>
        </p:grpSpPr>
        <p:sp>
          <p:nvSpPr>
            <p:cNvPr id="348" name=""/>
            <p:cNvSpPr/>
            <p:nvPr/>
          </p:nvSpPr>
          <p:spPr>
            <a:xfrm rot="5400000">
              <a:off x="5577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rot="5400000">
              <a:off x="74062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181480" y="5791320"/>
              <a:ext cx="3505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bbcc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d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85800" y="403848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182880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N: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85800" y="1143000"/>
            <a:ext cx="4419720" cy="62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952880" y="1143000"/>
            <a:ext cx="3733920" cy="57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m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le-synchronized 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5800" y="1219320"/>
            <a:ext cx="7772400" cy="2590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1143000"/>
            <a:ext cx="80010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n n-multigenerative rule-synchronized grammar system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-MG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up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= 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CFG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is a finite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tuples of the form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94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9480" y="4299120"/>
            <a:ext cx="8305920" cy="28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Symbol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{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})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648320" y="3809880"/>
            <a:ext cx="53316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352680" y="3809880"/>
            <a:ext cx="53352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057400" y="480060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 Derivation St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85800" y="1143000"/>
            <a:ext cx="7848720" cy="20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a n-MG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ff66ff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 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f (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59092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0481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5053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5053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858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143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6002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143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6002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9480" y="4191120"/>
            <a:ext cx="3962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32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553080" y="480060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0866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5438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001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5438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001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181480" y="480060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6386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0958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6386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0958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304920" y="5334120"/>
            <a:ext cx="8611920" cy="1371600"/>
            <a:chOff x="304920" y="5334120"/>
            <a:chExt cx="8611920" cy="1371600"/>
          </a:xfrm>
        </p:grpSpPr>
        <p:sp>
          <p:nvSpPr>
            <p:cNvPr id="397" name=""/>
            <p:cNvSpPr/>
            <p:nvPr/>
          </p:nvSpPr>
          <p:spPr>
            <a:xfrm flipV="1">
              <a:off x="167652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7652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60912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9144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1337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5909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1337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909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90512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049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621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219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621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219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0481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505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9625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05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9625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266616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1447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8954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33526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8098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617220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17220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80060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5105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4100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6294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0866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6294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0866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40080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8006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2578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715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2578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715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5438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001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582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001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4582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7162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594324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391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78480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305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267080" y="533412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5105520" y="4191120"/>
            <a:ext cx="4038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124080" y="3733920"/>
            <a:ext cx="3581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32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09480" y="2971800"/>
            <a:ext cx="7848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lexive and 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33520" y="365760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685800" y="25909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5800" y="121932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85800" y="1219320"/>
            <a:ext cx="80773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anguage for n-MGR is defined analogically as the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anguage for n-MG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Generated Multistrings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&amp; Languag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5800" y="2590920"/>
            <a:ext cx="79246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: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anguage generated by n-MGR in 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de, for each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is defined analogically as a language generated by n-MGN in 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"/>
          <p:cNvGrpSpPr/>
          <p:nvPr/>
        </p:nvGrpSpPr>
        <p:grpSpPr>
          <a:xfrm>
            <a:off x="5943600" y="5257800"/>
            <a:ext cx="2057400" cy="977760"/>
            <a:chOff x="5943600" y="5257800"/>
            <a:chExt cx="2057400" cy="977760"/>
          </a:xfrm>
        </p:grpSpPr>
        <p:sp>
          <p:nvSpPr>
            <p:cNvPr id="461" name=""/>
            <p:cNvSpPr/>
            <p:nvPr/>
          </p:nvSpPr>
          <p:spPr>
            <a:xfrm>
              <a:off x="7543800" y="5257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943600" y="5257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3" name=""/>
            <p:cNvGrpSpPr/>
            <p:nvPr/>
          </p:nvGrpSpPr>
          <p:grpSpPr>
            <a:xfrm>
              <a:off x="6324120" y="5714640"/>
              <a:ext cx="1296000" cy="520920"/>
              <a:chOff x="6324120" y="5714640"/>
              <a:chExt cx="1296000" cy="520920"/>
            </a:xfrm>
          </p:grpSpPr>
          <p:sp>
            <p:nvSpPr>
              <p:cNvPr id="464" name=""/>
              <p:cNvSpPr/>
              <p:nvPr/>
            </p:nvSpPr>
            <p:spPr>
              <a:xfrm>
                <a:off x="6553080" y="5715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 flipV="1">
                <a:off x="6324120" y="5714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V="1">
                <a:off x="7391520" y="5714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7" name=""/>
          <p:cNvGrpSpPr/>
          <p:nvPr/>
        </p:nvGrpSpPr>
        <p:grpSpPr>
          <a:xfrm>
            <a:off x="5943600" y="4114800"/>
            <a:ext cx="2057400" cy="977760"/>
            <a:chOff x="5943600" y="4114800"/>
            <a:chExt cx="2057400" cy="977760"/>
          </a:xfrm>
        </p:grpSpPr>
        <p:sp>
          <p:nvSpPr>
            <p:cNvPr id="468" name=""/>
            <p:cNvSpPr/>
            <p:nvPr/>
          </p:nvSpPr>
          <p:spPr>
            <a:xfrm>
              <a:off x="7543800" y="4114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943600" y="4114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0" name=""/>
            <p:cNvGrpSpPr/>
            <p:nvPr/>
          </p:nvGrpSpPr>
          <p:grpSpPr>
            <a:xfrm>
              <a:off x="6324120" y="4571640"/>
              <a:ext cx="1296000" cy="520920"/>
              <a:chOff x="6324120" y="4571640"/>
              <a:chExt cx="1296000" cy="520920"/>
            </a:xfrm>
          </p:grpSpPr>
          <p:sp>
            <p:nvSpPr>
              <p:cNvPr id="471" name=""/>
              <p:cNvSpPr/>
              <p:nvPr/>
            </p:nvSpPr>
            <p:spPr>
              <a:xfrm>
                <a:off x="6553080" y="4572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H="1" flipV="1">
                <a:off x="6324120" y="4571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V="1">
                <a:off x="7391520" y="4571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4" name=""/>
          <p:cNvGrpSpPr/>
          <p:nvPr/>
        </p:nvGrpSpPr>
        <p:grpSpPr>
          <a:xfrm>
            <a:off x="5943600" y="1828800"/>
            <a:ext cx="2057400" cy="977760"/>
            <a:chOff x="5943600" y="1828800"/>
            <a:chExt cx="2057400" cy="977760"/>
          </a:xfrm>
        </p:grpSpPr>
        <p:sp>
          <p:nvSpPr>
            <p:cNvPr id="475" name=""/>
            <p:cNvSpPr/>
            <p:nvPr/>
          </p:nvSpPr>
          <p:spPr>
            <a:xfrm>
              <a:off x="7543800" y="1828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943600" y="1828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7" name=""/>
            <p:cNvGrpSpPr/>
            <p:nvPr/>
          </p:nvGrpSpPr>
          <p:grpSpPr>
            <a:xfrm>
              <a:off x="6324120" y="2285640"/>
              <a:ext cx="1296000" cy="520920"/>
              <a:chOff x="6324120" y="2285640"/>
              <a:chExt cx="1296000" cy="520920"/>
            </a:xfrm>
          </p:grpSpPr>
          <p:sp>
            <p:nvSpPr>
              <p:cNvPr id="478" name=""/>
              <p:cNvSpPr/>
              <p:nvPr/>
            </p:nvSpPr>
            <p:spPr>
              <a:xfrm>
                <a:off x="6553080" y="2286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H="1" flipV="1">
                <a:off x="6324120" y="2285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V="1">
                <a:off x="7391520" y="2285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1" name=""/>
          <p:cNvGrpSpPr/>
          <p:nvPr/>
        </p:nvGrpSpPr>
        <p:grpSpPr>
          <a:xfrm>
            <a:off x="5943600" y="2971800"/>
            <a:ext cx="2057400" cy="977760"/>
            <a:chOff x="5943600" y="2971800"/>
            <a:chExt cx="2057400" cy="977760"/>
          </a:xfrm>
        </p:grpSpPr>
        <p:sp>
          <p:nvSpPr>
            <p:cNvPr id="482" name=""/>
            <p:cNvSpPr/>
            <p:nvPr/>
          </p:nvSpPr>
          <p:spPr>
            <a:xfrm>
              <a:off x="5943600" y="2971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543800" y="2971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4" name=""/>
            <p:cNvGrpSpPr/>
            <p:nvPr/>
          </p:nvGrpSpPr>
          <p:grpSpPr>
            <a:xfrm>
              <a:off x="6324120" y="3428640"/>
              <a:ext cx="1296000" cy="520920"/>
              <a:chOff x="6324120" y="3428640"/>
              <a:chExt cx="1296000" cy="520920"/>
            </a:xfrm>
          </p:grpSpPr>
          <p:sp>
            <p:nvSpPr>
              <p:cNvPr id="485" name=""/>
              <p:cNvSpPr/>
              <p:nvPr/>
            </p:nvSpPr>
            <p:spPr>
              <a:xfrm>
                <a:off x="6553080" y="3429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H="1" flipV="1">
                <a:off x="6324120" y="3428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V="1">
                <a:off x="7391520" y="3428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8" name=""/>
          <p:cNvSpPr/>
          <p:nvPr/>
        </p:nvSpPr>
        <p:spPr>
          <a:xfrm>
            <a:off x="685800" y="571500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85800" y="3809880"/>
            <a:ext cx="419112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85800" y="1828800"/>
            <a:ext cx="419112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R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85800" y="1143000"/>
            <a:ext cx="441972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562720" y="12193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334120" y="2362320"/>
            <a:ext cx="3657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105520" y="350532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876920" y="4648320"/>
            <a:ext cx="3962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181480" y="579132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bcc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5560920" y="5257800"/>
            <a:ext cx="2928600" cy="609480"/>
            <a:chOff x="5560920" y="5257800"/>
            <a:chExt cx="2928600" cy="609480"/>
          </a:xfrm>
        </p:grpSpPr>
        <p:sp>
          <p:nvSpPr>
            <p:cNvPr id="500" name=""/>
            <p:cNvSpPr/>
            <p:nvPr/>
          </p:nvSpPr>
          <p:spPr>
            <a:xfrm rot="5400000">
              <a:off x="5577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rot="5400000">
              <a:off x="7863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019920" y="5257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620120" y="5257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5560920" y="4114800"/>
            <a:ext cx="2928600" cy="609480"/>
            <a:chOff x="5560920" y="4114800"/>
            <a:chExt cx="2928600" cy="609480"/>
          </a:xfrm>
        </p:grpSpPr>
        <p:sp>
          <p:nvSpPr>
            <p:cNvPr id="505" name=""/>
            <p:cNvSpPr/>
            <p:nvPr/>
          </p:nvSpPr>
          <p:spPr>
            <a:xfrm rot="5400000">
              <a:off x="5577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rot="5400000">
              <a:off x="7863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019920" y="4114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620120" y="4114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5560920" y="1828800"/>
            <a:ext cx="2928600" cy="609480"/>
            <a:chOff x="5560920" y="1828800"/>
            <a:chExt cx="2928600" cy="609480"/>
          </a:xfrm>
        </p:grpSpPr>
        <p:sp>
          <p:nvSpPr>
            <p:cNvPr id="510" name=""/>
            <p:cNvSpPr/>
            <p:nvPr/>
          </p:nvSpPr>
          <p:spPr>
            <a:xfrm rot="5400000">
              <a:off x="55774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rot="5400000">
              <a:off x="78634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019920" y="1828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620120" y="1828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5560920" y="2971800"/>
            <a:ext cx="2928600" cy="609480"/>
            <a:chOff x="5560920" y="2971800"/>
            <a:chExt cx="2928600" cy="609480"/>
          </a:xfrm>
        </p:grpSpPr>
        <p:sp>
          <p:nvSpPr>
            <p:cNvPr id="515" name=""/>
            <p:cNvSpPr/>
            <p:nvPr/>
          </p:nvSpPr>
          <p:spPr>
            <a:xfrm rot="5400000">
              <a:off x="5577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rot="5400000">
              <a:off x="7863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0120" y="2971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019920" y="2971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R: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2880" y="1143000"/>
            <a:ext cx="3733920" cy="57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85800" y="571500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3809880"/>
            <a:ext cx="419112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85800" y="1828800"/>
            <a:ext cx="419112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85800" y="1143000"/>
            <a:ext cx="441972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685800" y="12193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Conversions Between MG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85800" y="11430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lgorithm, which convets any n-MGN to equivalent n-MGR in 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85800" y="297180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85800" y="289548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lgorithm, which convets any n-MG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 equivalent n-MGN in 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09480" y="45720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042920" y="5257800"/>
            <a:ext cx="291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n-MG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257800" y="5257800"/>
            <a:ext cx="305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n-MG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886200" y="541008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3886200" y="586728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685800" y="121932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s: Power of MG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133720" y="4572000"/>
            <a:ext cx="4800600" cy="9907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85800" y="6019920"/>
            <a:ext cx="2209680" cy="489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962520" y="5562720"/>
            <a:ext cx="33120" cy="242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059280" y="5805360"/>
            <a:ext cx="251460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MGN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796000" y="5805360"/>
            <a:ext cx="259092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MGR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H="1" flipV="1">
            <a:off x="5943600" y="5410080"/>
            <a:ext cx="789120" cy="3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1981080" y="5410080"/>
            <a:ext cx="914400" cy="609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85800" y="1143000"/>
            <a:ext cx="7772400" cy="30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1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n-MGN</a:t>
            </a:r>
            <a:r>
              <a:rPr b="0" i="1" lang="en-US" sz="31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n-MGR</a:t>
            </a:r>
            <a:r>
              <a:rPr b="0" i="1" lang="en-US" sz="31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 denote the language families defined by n-MGN in the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mode and n-MGR in the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mode resp.,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}. Then,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(RE) =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(2-MGR</a:t>
            </a:r>
            <a:r>
              <a:rPr b="1" i="1" lang="en-US" sz="40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) = 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(2-MGN</a:t>
            </a:r>
            <a:r>
              <a:rPr b="1" i="1" lang="en-US" sz="40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09480" y="41911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-MGNs and n-MG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11280" y="112536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There is used only the leftmost derivation in n-MGNs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/n-MGRs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951200" y="220356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484360" y="220356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94156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39876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94156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39876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79600" y="220356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0368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4940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0368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4940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446880" y="220356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948360" y="220356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4376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8948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4376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8948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075280" y="220356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53248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98968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53248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98968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1569960" y="2736000"/>
            <a:ext cx="1295640" cy="838440"/>
          </a:xfrm>
          <a:custGeom>
            <a:avLst/>
            <a:gdLst>
              <a:gd name="textAreaLeft" fmla="*/ 325440 w 1295640"/>
              <a:gd name="textAreaRight" fmla="*/ 970200 w 1295640"/>
              <a:gd name="textAreaTop" fmla="*/ 210600 h 838440"/>
              <a:gd name="textAreaBottom" fmla="*/ 627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983" y="21600"/>
                </a:lnTo>
                <a:lnTo>
                  <a:pt x="6617" y="2160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569960" y="3651120"/>
            <a:ext cx="13734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98360" y="2736720"/>
            <a:ext cx="1676520" cy="838440"/>
          </a:xfrm>
          <a:prstGeom prst="parallelogram">
            <a:avLst>
              <a:gd name="adj" fmla="val 4638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50292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808200" y="288936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0271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4843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0271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4843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798560" y="2965320"/>
            <a:ext cx="838440" cy="533520"/>
          </a:xfrm>
          <a:prstGeom prst="downArrow">
            <a:avLst>
              <a:gd name="adj1" fmla="val 39583"/>
              <a:gd name="adj2" fmla="val 4444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98360" y="36511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555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1127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555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1127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941560" y="36511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3987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559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3987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8559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2559960" y="2736720"/>
            <a:ext cx="1676520" cy="838440"/>
          </a:xfrm>
          <a:prstGeom prst="parallelogram">
            <a:avLst>
              <a:gd name="adj" fmla="val 4638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134100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78928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3245760" y="288936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70368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6066000" y="2736000"/>
            <a:ext cx="1295280" cy="838440"/>
          </a:xfrm>
          <a:custGeom>
            <a:avLst/>
            <a:gdLst>
              <a:gd name="textAreaLeft" fmla="*/ 325440 w 1295280"/>
              <a:gd name="textAreaRight" fmla="*/ 969840 w 1295280"/>
              <a:gd name="textAreaTop" fmla="*/ 210600 h 838440"/>
              <a:gd name="textAreaBottom" fmla="*/ 627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983" y="21600"/>
                </a:lnTo>
                <a:lnTo>
                  <a:pt x="6617" y="2160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066000" y="3651120"/>
            <a:ext cx="137304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694400" y="2736720"/>
            <a:ext cx="1676160" cy="838440"/>
          </a:xfrm>
          <a:prstGeom prst="parallelogram">
            <a:avLst>
              <a:gd name="adj" fmla="val 4637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499860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303880" y="288936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5232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9804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5232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9804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294600" y="2965320"/>
            <a:ext cx="838080" cy="533520"/>
          </a:xfrm>
          <a:prstGeom prst="downArrow">
            <a:avLst>
              <a:gd name="adj1" fmla="val 39583"/>
              <a:gd name="adj2" fmla="val 4444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694400" y="36511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1516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6088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1516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6088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437600" y="36511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8948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83520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8948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83520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H="1">
            <a:off x="7055640" y="2736720"/>
            <a:ext cx="1676520" cy="838440"/>
          </a:xfrm>
          <a:prstGeom prst="parallelogram">
            <a:avLst>
              <a:gd name="adj" fmla="val 4638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H="1">
            <a:off x="5837400" y="2813040"/>
            <a:ext cx="304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28496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7742160" y="2889360"/>
            <a:ext cx="609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819936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160880" y="27367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rot="16200000">
            <a:off x="1118160" y="133884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042920" y="148428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rot="16200000">
            <a:off x="2091240" y="1734120"/>
            <a:ext cx="216000" cy="576360"/>
          </a:xfrm>
          <a:custGeom>
            <a:avLst/>
            <a:gdLst>
              <a:gd name="textAreaLeft" fmla="*/ 0 w 216000"/>
              <a:gd name="textAreaRight" fmla="*/ 78120 w 21600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979640" y="148428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rot="16200000">
            <a:off x="3062880" y="133884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987640" y="148428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rot="16200000">
            <a:off x="5616360" y="1447560"/>
            <a:ext cx="216000" cy="1295640"/>
          </a:xfrm>
          <a:custGeom>
            <a:avLst/>
            <a:gdLst>
              <a:gd name="textAreaLeft" fmla="*/ 0 w 216000"/>
              <a:gd name="textAreaRight" fmla="*/ 78120 w 2160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508720" y="155592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rot="16200000">
            <a:off x="6555600" y="1805400"/>
            <a:ext cx="215640" cy="576360"/>
          </a:xfrm>
          <a:custGeom>
            <a:avLst/>
            <a:gdLst>
              <a:gd name="textAreaLeft" fmla="*/ 0 w 215640"/>
              <a:gd name="textAreaRight" fmla="*/ 77760 w 21564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443640" y="155592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rot="16200000">
            <a:off x="7523640" y="141192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272360" y="155736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879560" y="558972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413080" y="55897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87028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32748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87028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32748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07960" y="55897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9651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4223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9651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4223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375240" y="5589720"/>
            <a:ext cx="53532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877080" y="55897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3659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8231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3659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8231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003640" y="55897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46084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91804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46084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91804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rot="16200000">
            <a:off x="1043640" y="479808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rot="16200000">
            <a:off x="2986560" y="479808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916360" y="487044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rot="16200000">
            <a:off x="5545080" y="4834080"/>
            <a:ext cx="216000" cy="1295280"/>
          </a:xfrm>
          <a:custGeom>
            <a:avLst/>
            <a:gdLst>
              <a:gd name="textAreaLeft" fmla="*/ 0 w 216000"/>
              <a:gd name="textAreaRight" fmla="*/ 78120 w 2160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rot="16200000">
            <a:off x="7452360" y="479808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55640" y="4221000"/>
            <a:ext cx="763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971640" y="487044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272360" y="494172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435640" y="494172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140360" y="54468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835280" y="58690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300720" y="58690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11280" y="4221000"/>
            <a:ext cx="8532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There is used 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general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derivation in </a:t>
            </a:r>
            <a:r>
              <a:rPr b="1" lang="en-US" sz="2300" spc="-1" strike="noStrike" u="sng">
                <a:solidFill>
                  <a:srgbClr val="3333cc"/>
                </a:solidFill>
                <a:uFillTx/>
                <a:latin typeface="Times New Roman"/>
              </a:rPr>
              <a:t>Genaral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n-MGNs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/n-MGRs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Grammar To M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120" y="1066680"/>
            <a:ext cx="4474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rammar: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05120" y="16002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09680"/>
            <a:ext cx="8001000" cy="15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Grammar system: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… 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0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CFG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a set of rules, which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hec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generati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6019920"/>
            <a:ext cx="7696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Generated multistring in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380988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426708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525780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0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cs-CZ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4320" y="3886200"/>
            <a:ext cx="152280" cy="1905120"/>
          </a:xfrm>
          <a:custGeom>
            <a:avLst/>
            <a:gdLst>
              <a:gd name="textAreaLeft" fmla="*/ 0 w 152280"/>
              <a:gd name="textAreaRight" fmla="*/ 55080 w 15228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434340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aralell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031840" y="5232240"/>
            <a:ext cx="330480" cy="254160"/>
          </a:xfrm>
          <a:custGeom>
            <a:avLst/>
            <a:gdLst/>
            <a:ahLst/>
            <a:rect l="l" t="t" r="r" b="b"/>
            <a:pathLst>
              <a:path w="208" h="160">
                <a:moveTo>
                  <a:pt x="0" y="160"/>
                </a:moveTo>
                <a:cubicBezTo>
                  <a:pt x="7" y="142"/>
                  <a:pt x="5" y="75"/>
                  <a:pt x="40" y="48"/>
                </a:cubicBezTo>
                <a:cubicBezTo>
                  <a:pt x="75" y="21"/>
                  <a:pt x="173" y="10"/>
                  <a:pt x="208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905120" y="4723560"/>
            <a:ext cx="457200" cy="228600"/>
          </a:xfrm>
          <a:custGeom>
            <a:avLst/>
            <a:gdLst/>
            <a:ahLst/>
            <a:rect l="l" t="t" r="r" b="b"/>
            <a:pathLst>
              <a:path w="224" h="288">
                <a:moveTo>
                  <a:pt x="32" y="288"/>
                </a:moveTo>
                <a:cubicBezTo>
                  <a:pt x="16" y="216"/>
                  <a:pt x="0" y="144"/>
                  <a:pt x="32" y="96"/>
                </a:cubicBezTo>
                <a:cubicBezTo>
                  <a:pt x="64" y="48"/>
                  <a:pt x="192" y="16"/>
                  <a:pt x="224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30520" y="4267080"/>
            <a:ext cx="618840" cy="851040"/>
          </a:xfrm>
          <a:custGeom>
            <a:avLst/>
            <a:gdLst/>
            <a:ahLst/>
            <a:rect l="l" t="t" r="r" b="b"/>
            <a:pathLst>
              <a:path w="390" h="536">
                <a:moveTo>
                  <a:pt x="115" y="0"/>
                </a:moveTo>
                <a:cubicBezTo>
                  <a:pt x="104" y="72"/>
                  <a:pt x="0" y="343"/>
                  <a:pt x="46" y="432"/>
                </a:cubicBezTo>
                <a:cubicBezTo>
                  <a:pt x="92" y="521"/>
                  <a:pt x="318" y="514"/>
                  <a:pt x="390" y="53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48769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ecking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860400" y="4852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5400000">
            <a:off x="3832200" y="4852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MG) is a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language over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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84360" y="321300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84360" y="3716280"/>
            <a:ext cx="73436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476360" y="472428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B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84360" y="58053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2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trix Grammar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39640" y="1052640"/>
            <a:ext cx="7344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332000" y="206064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B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39640" y="314172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2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11280" y="378936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17840" y="3789360"/>
            <a:ext cx="698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b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2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b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82200" y="5516640"/>
            <a:ext cx="389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685800" y="297180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85800" y="12193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MG and General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n-MGNs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n-MGRs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 Conversion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11280" y="1125360"/>
            <a:ext cx="7989840" cy="33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general n-MGN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n-M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n th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there exists an equivalent matrix gramma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every matrix grammar there exists an equivalent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n-MGN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n-M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n th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09480" y="45720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11280" y="508464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n-M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635280" y="5445000"/>
            <a:ext cx="432000" cy="304920"/>
          </a:xfrm>
          <a:prstGeom prst="rightArrow">
            <a:avLst>
              <a:gd name="adj1" fmla="val 50000"/>
              <a:gd name="adj2" fmla="val 354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11280" y="551664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n-MG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580000" y="508464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2-M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580000" y="551664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2-MG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067280" y="522936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M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219640" y="5445000"/>
            <a:ext cx="432000" cy="304920"/>
          </a:xfrm>
          <a:prstGeom prst="rightArrow">
            <a:avLst>
              <a:gd name="adj1" fmla="val 50000"/>
              <a:gd name="adj2" fmla="val 354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685800" y="121932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s: Power of General MG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133720" y="4572000"/>
            <a:ext cx="4800600" cy="9907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11280" y="5805360"/>
            <a:ext cx="338436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s defined by matrix gramma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643280" y="5589720"/>
            <a:ext cx="33480" cy="242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356000" y="5805360"/>
            <a:ext cx="165744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GMGN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732720" y="5805360"/>
            <a:ext cx="165420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GMGR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H="1" flipV="1">
            <a:off x="5943600" y="5410080"/>
            <a:ext cx="789120" cy="3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1979640" y="5410080"/>
            <a:ext cx="915840" cy="395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85800" y="1143000"/>
            <a:ext cx="7772400" cy="32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n-GMGN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n-GMGR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denote the language families defined by general   n-MGN in the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mode and general n-MGR in the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mode resp.,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. Then,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(MG) =</a:t>
            </a:r>
            <a:r>
              <a:rPr b="1" i="1" lang="en-US" sz="35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(n-GMGR</a:t>
            </a:r>
            <a:r>
              <a:rPr b="1" i="1" lang="en-US" sz="35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) = </a:t>
            </a:r>
            <a:r>
              <a:rPr b="1" i="1" lang="en-US" sz="35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(n-GMGN</a:t>
            </a:r>
            <a:r>
              <a:rPr b="1" i="1" lang="en-US" sz="35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09480" y="41911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4800600" y="2438280"/>
            <a:ext cx="4114800" cy="3979800"/>
            <a:chOff x="4800600" y="2438280"/>
            <a:chExt cx="4114800" cy="3979800"/>
          </a:xfrm>
        </p:grpSpPr>
        <p:sp>
          <p:nvSpPr>
            <p:cNvPr id="62" name=""/>
            <p:cNvSpPr/>
            <p:nvPr/>
          </p:nvSpPr>
          <p:spPr>
            <a:xfrm>
              <a:off x="4876920" y="4952880"/>
              <a:ext cx="3504960" cy="609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876920" y="373392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876920" y="2438280"/>
              <a:ext cx="3504960" cy="609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800600" y="5867280"/>
              <a:ext cx="4114800" cy="550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Checking of derivation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8686800" y="2743200"/>
              <a:ext cx="0" cy="3124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8381520" y="274320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8381520" y="403848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8381520" y="525780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33520" y="1828800"/>
            <a:ext cx="4114800" cy="4589280"/>
            <a:chOff x="533520" y="1828800"/>
            <a:chExt cx="4114800" cy="4589280"/>
          </a:xfrm>
        </p:grpSpPr>
        <p:sp>
          <p:nvSpPr>
            <p:cNvPr id="71" name=""/>
            <p:cNvSpPr/>
            <p:nvPr/>
          </p:nvSpPr>
          <p:spPr>
            <a:xfrm>
              <a:off x="990720" y="434340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990720" y="304812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990720" y="182880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3520" y="5867280"/>
              <a:ext cx="4114800" cy="550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Checking of multiform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685800" y="2133360"/>
              <a:ext cx="0" cy="3733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85800" y="213372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85800" y="335268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5800" y="464832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cking: Two Approach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10666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ymbols Check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2428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24280" y="106668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ules Check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66680" y="1752480"/>
            <a:ext cx="3505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5400000">
            <a:off x="131040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207252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3609000" y="24202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297180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5400000">
            <a:off x="131076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5400000">
            <a:off x="207288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5400000">
            <a:off x="3608640" y="371556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426708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5400000">
            <a:off x="13104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5400000">
            <a:off x="207252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35964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9520" y="3657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952880" y="1752480"/>
            <a:ext cx="3505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5400000">
            <a:off x="519660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5400000">
            <a:off x="595872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7495200" y="24202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297180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519696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595908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5400000">
            <a:off x="7494840" y="371556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426708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51966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595872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5400000">
            <a:off x="74826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7057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3657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0572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510552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400800" y="518148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terminal-synchronized 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219320"/>
            <a:ext cx="7772400" cy="2590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143000"/>
            <a:ext cx="80010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 n-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ultigenerativ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onterminal-synchronize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rammar syste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-MG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up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= 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CFG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is a finite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tuples of the form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4343400"/>
            <a:ext cx="8305920" cy="25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}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648320" y="3809880"/>
            <a:ext cx="533160" cy="5335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52680" y="3809880"/>
            <a:ext cx="533520" cy="5335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057400" y="48006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 Derivation St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1143000"/>
            <a:ext cx="7848720" cy="20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a n-MG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 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f 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9092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81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053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81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053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002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002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4191120"/>
            <a:ext cx="3657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553080" y="48006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866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5438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001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438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001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181480" y="480060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6386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58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386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58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04920" y="5334120"/>
            <a:ext cx="8611920" cy="1371600"/>
            <a:chOff x="304920" y="5334120"/>
            <a:chExt cx="8611920" cy="1371600"/>
          </a:xfrm>
        </p:grpSpPr>
        <p:sp>
          <p:nvSpPr>
            <p:cNvPr id="153" name=""/>
            <p:cNvSpPr/>
            <p:nvPr/>
          </p:nvSpPr>
          <p:spPr>
            <a:xfrm flipV="1">
              <a:off x="167652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7652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04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60912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144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1337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909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337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5909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90512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49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621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219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621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219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481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505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9625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505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9625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266616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1447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954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33526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098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617220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7220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80060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5105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4100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6294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0866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6294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0866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40080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8006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2578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715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2578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15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5438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001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4582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01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4582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7162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594324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391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78480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305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267080" y="533412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5105520" y="419112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124080" y="3733920"/>
            <a:ext cx="3581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2971800"/>
            <a:ext cx="7848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lexive and 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3520" y="365760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1219320"/>
            <a:ext cx="838224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be a n-MGN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ll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Languag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429000" y="29718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32004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38862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54100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5400000">
            <a:off x="1789560" y="4913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37339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00200" y="44197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00200" y="51814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2120" y="57913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2120" y="61866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14800" y="4267080"/>
            <a:ext cx="4267080" cy="23623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086600" y="3352680"/>
            <a:ext cx="1295280" cy="535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900" spc="-1" strike="noStrike">
                <a:solidFill>
                  <a:srgbClr val="000000"/>
                </a:solidFill>
                <a:latin typeface="Times New Roman"/>
              </a:rPr>
              <a:t>n-L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7620120" y="3886200"/>
            <a:ext cx="38088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0" y="5257800"/>
            <a:ext cx="289548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rot="5400000">
            <a:off x="57978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rot="5400000">
            <a:off x="5797800" y="59346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352680" y="52578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1219320"/>
            <a:ext cx="80010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generated b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irst m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irs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irst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Times New Roman"/>
              </a:rPr>
              <a:t>Generated Language in </a:t>
            </a:r>
            <a:r>
              <a:rPr b="0" i="1" lang="cs-CZ" sz="3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i="1" lang="en-GB" sz="3900" spc="-1" strike="noStrike">
                <a:solidFill>
                  <a:srgbClr val="000000"/>
                </a:solidFill>
                <a:latin typeface="Times New Roman"/>
              </a:rPr>
              <a:t> Mod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26668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9480" y="29718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9480" y="36576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9480" y="51814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rot="5400000">
            <a:off x="1789560" y="4685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00200" y="35053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00200" y="41911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00200" y="49528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2120" y="55627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62120" y="59580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114800" y="4191120"/>
            <a:ext cx="4267080" cy="23619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781680" y="3352680"/>
            <a:ext cx="1600200" cy="59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cs-CZ" sz="2900" spc="-1" strike="noStrike" baseline="-25000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7695720" y="3962520"/>
            <a:ext cx="2286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5400000">
            <a:off x="53406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5400000">
            <a:off x="5340600" y="57823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352680" y="50292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181480" y="51814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" y="1219320"/>
            <a:ext cx="8001000" cy="20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generated b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nion m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…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}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Generated Language in </a:t>
            </a: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Union Mod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429000" y="31240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9480" y="335268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9480" y="40384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556272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rot="5400000">
            <a:off x="1789560" y="5065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388620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00200" y="457200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00200" y="53341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62120" y="594360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62120" y="633888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114800" y="4343400"/>
            <a:ext cx="4267080" cy="23623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81680" y="3505320"/>
            <a:ext cx="1600200" cy="59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en-GB" sz="29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7695720" y="4114800"/>
            <a:ext cx="22860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54100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rot="5400000">
            <a:off x="5797800" y="44866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rot="5400000">
            <a:off x="5797800" y="60109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541008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54100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010280" y="54100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400800" y="54100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5800" y="1219320"/>
            <a:ext cx="80010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generated b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ncatenation m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Generated Language in </a:t>
            </a:r>
            <a:r>
              <a:rPr b="0" i="1" lang="en-GB" sz="4200" spc="-1" strike="noStrike">
                <a:solidFill>
                  <a:srgbClr val="000000"/>
                </a:solidFill>
                <a:latin typeface="Times New Roman"/>
              </a:rPr>
              <a:t>Conc. Mod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429000" y="26668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29718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9480" y="36576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9480" y="51814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rot="5400000">
            <a:off x="1789560" y="4685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600200" y="35053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600200" y="41911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600200" y="49528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62120" y="55627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2120" y="59580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14800" y="4191120"/>
            <a:ext cx="4267080" cy="23619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781680" y="3352680"/>
            <a:ext cx="1600200" cy="59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en-GB" sz="29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7695720" y="3962520"/>
            <a:ext cx="2286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rot="5400000">
            <a:off x="57978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5400000">
            <a:off x="5797800" y="57823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352680" y="50292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648320" y="5181480"/>
            <a:ext cx="220968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6-06-26T22:50:05Z</dcterms:modified>
  <cp:revision>193</cp:revision>
  <dc:subject/>
  <dc:title>Formal Languages and Compilers</dc:title>
</cp:coreProperties>
</file>