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DE7-1542-47BD-B927-71B52BD0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88D-01D0-4757-8868-1121C035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F67-AFC1-42A7-B4B5-0D2B8041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237-91B3-4367-9A41-E2A89D38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42F9-9F4A-477C-96E3-8EAAF92F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D646-3B0C-483E-A487-A2303052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2974-4525-403A-AD08-0DB488B2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AB32-052D-4216-A40F-50636EB4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07F1-E259-444A-9A67-4F7A588C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5B95-CB8C-4241-9C3E-931F45B3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FFE3-3790-412A-ACB5-64617062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AF6-71A8-405D-AB76-7A145ECB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3DD2-0F37-4375-9AD7-F6A61136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3A6C-1D33-4096-A86A-81859ED5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C917-3F2A-4D80-9CBC-BE937A7B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F323-EA28-4589-BD69-0AEAC145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EC4F-6C05-43CE-A1A0-F6FDA6F0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3EA-602C-4411-BDAF-0470FDF7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896-6033-498D-96EC-ED151826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E0C-FAEF-43BF-BA3E-FD99830D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C28-7971-4587-A0EF-FA98AA74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4A5-CED4-4C1A-9A4D-B190685D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B44-25EF-4EE4-83E2-90FDF3A1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304-14C6-4D2C-99DB-6556DD4F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8053-2FAF-4C07-BBC2-782EC9BF70D2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020E-FEC3-4556-9743-84CE6F8092DA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dvanced VYP Mater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lated to VYP0</a:t>
            </a: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seim</cp:lastModifiedBy>
  <dcterms:modified xsi:type="dcterms:W3CDTF">2005-10-22T14:23:06Z</dcterms:modified>
  <cp:revision>195</cp:revision>
  <dc:subject/>
  <dc:title>Parallel communicating (PC) grammar systems</dc:title>
</cp:coreProperties>
</file>