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2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99300" cy="10234613"/>
</p:presentation>
</file>

<file path=ppt/commentAuthors.xml><?xml version="1.0" encoding="utf-8"?>
<p:cmAuthorLst xmlns:p="http://schemas.openxmlformats.org/presentationml/2006/main">
  <p:cmAuthor id="0" name="CVT" initials="C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<Relationship Id="rId27" Type="http://schemas.openxmlformats.org/officeDocument/2006/relationships/commentAuthors" Target="commentAuthors.xml"/>
</Relationships>
</file>

<file path=ppt/comments/comment21.xml><?xml version="1.0" encoding="utf-8"?>
<p:cmLst xmlns:p="http://schemas.openxmlformats.org/presentationml/2006/main">
  <p:cm authorId="0" dt="2005-11-03T14:39:31.656000000" idx="1">
    <p:pos x="10" y="10"/>
    <p:text>případně další příklad L(G) = {a^2^n b a^2^m : n, m &gt;= 0} pomocí pravidel E0L systému:
A -&gt; A, A-&gt; a, a -&gt; aa, b -&gt; b.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4D66-4FCF-4768-85AB-2FE789C3E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051A-7766-4203-B10C-6A1C1C53D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2E6A-0367-4D26-B574-F08F36736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1C2A-FAC4-4D2C-883F-406F73671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5BE2-B2E2-46C0-9CBD-09CED594F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BC47-8126-429C-9821-3C3AE6344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FBD5-39C8-4EE5-BA05-4826CCE45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3101-975F-4065-9E82-97C2BF409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AE88-D3E4-4EB8-B840-F2F77D294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CF88-E46C-4886-BAE6-801DD9D89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D0D6-11A9-4F49-85BB-A4C235EC3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97DD-4BA8-41B9-87E4-28C3AD999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5FF41-164A-4C4F-A905-391D71CACFC9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Advanced 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L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ecture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:</a:t>
            </a:r>
            <a:br>
              <a:rPr sz="6000"/>
            </a:b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L-system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3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4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5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6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7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7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…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1]7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23]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8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…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23]8[1]7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224]8[23]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9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8[2254]8[224]8[23]8[1]765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10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435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995640" y="285444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28472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57200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4140360" y="4797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4427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8[22654]8[2254]8[224]8[23]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11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435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65164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995640" y="285444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067280" y="263844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28472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35600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57200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64508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4140360" y="4797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4212360" y="5013360"/>
            <a:ext cx="287640" cy="216000"/>
          </a:xfrm>
          <a:prstGeom prst="parallelogram">
            <a:avLst>
              <a:gd name="adj" fmla="val 3329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4427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450072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4788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8[227654]8[22654]8[2254]8[224]8[23]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685800" y="1752480"/>
            <a:ext cx="7772400" cy="2971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85800" y="1676520"/>
            <a:ext cx="784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Not closed under operation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nion of 0L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ersection of 0L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lementation of 0L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catenation of 0L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sitive closure (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of 0L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Operations over 0L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properties different from CF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85800" y="50292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85800" y="49528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losed under operation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eversal of 0L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1981080"/>
            <a:ext cx="7772400" cy="838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219320"/>
            <a:ext cx="7772400" cy="685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L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3232080"/>
            <a:ext cx="777240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Times New Roman"/>
              </a:rPr>
              <a:t>Classical approac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Only a certain </a:t>
            </a:r>
            <a:r>
              <a:rPr b="0" i="1" lang="en-PH" sz="3200" spc="-1" strike="noStrike">
                <a:solidFill>
                  <a:srgbClr val="000000"/>
                </a:solidFill>
                <a:latin typeface="Times New Roman"/>
              </a:rPr>
              <a:t>part</a:t>
            </a: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 of a word is rewritten at one mo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Times New Roman"/>
              </a:rPr>
              <a:t>Lindenmayer approac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PH" sz="3200" spc="-1" strike="noStrike">
                <a:solidFill>
                  <a:srgbClr val="000000"/>
                </a:solidFill>
                <a:latin typeface="Times New Roman"/>
              </a:rPr>
              <a:t>All letters</a:t>
            </a: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 of a word must be rewritten at the sam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129528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History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strid Lindenmayer, 196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21337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nspiration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the growth process in living organis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685800" y="1752480"/>
            <a:ext cx="7772400" cy="1828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85800" y="1676520"/>
            <a:ext cx="784872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Extended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 syste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a quadru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, 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have the same meaning as in 0L system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set of termi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11280" y="573408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n E0L system then it is 0L sy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7240" y="565776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0L 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mproved variant of 0L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87240" y="436248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87240" y="428616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generated by E0L syste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L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 = {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84360" y="357336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– by analogy with 0L syst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84360" y="414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684360" y="440676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84360" y="234936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}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0L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ystem –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0948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E0L are more powerful than 0L;</a:t>
            </a:r>
            <a:br>
              <a:rPr sz="3200"/>
            </a:b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starting string has not to be inluded in L(G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84360" y="29592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= {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 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84360" y="36450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cs-CZ" sz="3200" spc="-1" strike="noStrike">
                <a:solidFill>
                  <a:srgbClr val="cc3300"/>
                </a:solidFill>
                <a:latin typeface="Times New Roman"/>
              </a:rPr>
              <a:t>a</a:t>
            </a:r>
            <a:r>
              <a:rPr b="1" lang="cs-CZ" sz="3200" spc="-1" strike="noStrike" baseline="20000">
                <a:solidFill>
                  <a:srgbClr val="cc3300"/>
                </a:solidFill>
                <a:latin typeface="Times New Roman"/>
              </a:rPr>
              <a:t>2</a:t>
            </a:r>
            <a:r>
              <a:rPr b="1" i="1" lang="cs-CZ" sz="3200" spc="-1" strike="noStrike" baseline="40000">
                <a:solidFill>
                  <a:srgbClr val="cc33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0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cs-CZ" sz="3200" spc="-1" strike="noStrike">
                <a:solidFill>
                  <a:srgbClr val="cc3300"/>
                </a:solidFill>
                <a:latin typeface="Times New Roman"/>
              </a:rPr>
              <a:t>b</a:t>
            </a:r>
            <a:r>
              <a:rPr b="1" lang="cs-CZ" sz="3200" spc="-1" strike="noStrike" baseline="20000">
                <a:solidFill>
                  <a:srgbClr val="cc3300"/>
                </a:solidFill>
                <a:latin typeface="Times New Roman"/>
              </a:rPr>
              <a:t>2</a:t>
            </a:r>
            <a:r>
              <a:rPr b="1" i="1" lang="cs-CZ" sz="3200" spc="-1" strike="noStrike" baseline="40000">
                <a:solidFill>
                  <a:srgbClr val="cc33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60320" y="234936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85800" y="4572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E0L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0L)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0L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E0L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L &amp; Chomsky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79640" y="1285920"/>
            <a:ext cx="5616720" cy="55720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rot="19641000">
            <a:off x="6075000" y="5204520"/>
            <a:ext cx="100836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700360" y="1430280"/>
            <a:ext cx="4248000" cy="4275360"/>
          </a:xfrm>
          <a:prstGeom prst="ellipse">
            <a:avLst/>
          </a:prstGeom>
          <a:solidFill>
            <a:srgbClr val="00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987640" y="1717560"/>
            <a:ext cx="2952720" cy="2952720"/>
          </a:xfrm>
          <a:prstGeom prst="ellipse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348000" y="1935000"/>
            <a:ext cx="2160720" cy="143856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203640" y="2538360"/>
            <a:ext cx="1582560" cy="4032360"/>
          </a:xfrm>
          <a:prstGeom prst="ellipse">
            <a:avLst/>
          </a:prstGeom>
          <a:solidFill>
            <a:srgbClr val="cc3300">
              <a:alpha val="64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rot="19092000">
            <a:off x="4632840" y="2369520"/>
            <a:ext cx="72072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rot="19264200">
            <a:off x="4849560" y="3234600"/>
            <a:ext cx="92232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E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rot="19589400">
            <a:off x="5643000" y="4025160"/>
            <a:ext cx="100800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C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1834920" y="2943360"/>
            <a:ext cx="2089080" cy="215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1763640" y="3762360"/>
            <a:ext cx="1944720" cy="71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2771280" y="5057640"/>
            <a:ext cx="1295640" cy="1447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2484360" y="6254640"/>
            <a:ext cx="1440000" cy="100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5219640" y="2249280"/>
            <a:ext cx="2089080" cy="649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5508720" y="3401640"/>
            <a:ext cx="1152360" cy="406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6012000" y="4653000"/>
            <a:ext cx="1224000" cy="333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651640" y="6066000"/>
            <a:ext cx="1441440" cy="215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971640" y="2825640"/>
            <a:ext cx="8636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a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84360" y="3762360"/>
            <a:ext cx="108108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a}</a:t>
            </a:r>
            <a:r>
              <a:rPr b="1" lang="cs-CZ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24000" y="4986360"/>
            <a:ext cx="248256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1" i="1" lang="cs-CZ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24000" y="6066000"/>
            <a:ext cx="215892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2400" spc="-1" strike="noStrike" baseline="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2400" spc="-1" strike="noStrike" baseline="4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093080" y="5994360"/>
            <a:ext cx="158436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236000" y="4365720"/>
            <a:ext cx="172224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659640" y="3041640"/>
            <a:ext cx="230328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bbb}</a:t>
            </a:r>
            <a:r>
              <a:rPr b="1" lang="cs-CZ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308720" y="2033640"/>
            <a:ext cx="12542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564000" y="4194000"/>
            <a:ext cx="863640" cy="581400"/>
          </a:xfrm>
          <a:prstGeom prst="rect">
            <a:avLst/>
          </a:prstGeom>
          <a:solidFill>
            <a:srgbClr val="cc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0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3962520" y="2438280"/>
            <a:ext cx="137160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T0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 systems &amp; Chomsky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114800" y="3505320"/>
            <a:ext cx="99072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E0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181480" y="4724280"/>
            <a:ext cx="76212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276720" y="4724280"/>
            <a:ext cx="83808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038480" y="1371600"/>
            <a:ext cx="121932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191120" y="6019920"/>
            <a:ext cx="76176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4572000" y="19810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4572000" y="30481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3809880" y="4114440"/>
            <a:ext cx="30492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4952880" y="5333760"/>
            <a:ext cx="60984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flipV="1">
            <a:off x="3581280" y="5333760"/>
            <a:ext cx="60984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flipV="1">
            <a:off x="5105520" y="4114440"/>
            <a:ext cx="30456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60320" y="2895480"/>
            <a:ext cx="7774200" cy="24685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03240" y="2843280"/>
            <a:ext cx="7772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0L syste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a tripl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a finit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lphabe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f symb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a finite set o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rul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f the form: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where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GB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GB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tarting strin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axiom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0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21337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no nonterminals, p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ll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el derivation 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85800" y="990720"/>
            <a:ext cx="4114800" cy="914400"/>
            <a:chOff x="685800" y="990720"/>
            <a:chExt cx="4114800" cy="914400"/>
          </a:xfrm>
        </p:grpSpPr>
        <p:sp>
          <p:nvSpPr>
            <p:cNvPr id="58" name=""/>
            <p:cNvSpPr/>
            <p:nvPr/>
          </p:nvSpPr>
          <p:spPr>
            <a:xfrm>
              <a:off x="685800" y="1371600"/>
              <a:ext cx="3962520" cy="5335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85800" y="1371600"/>
              <a:ext cx="411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800" spc="-1" strike="noStrike">
                  <a:solidFill>
                    <a:srgbClr val="000000"/>
                  </a:solidFill>
                  <a:latin typeface="Times New Roman"/>
                </a:rPr>
                <a:t>Zero-sided left-side hand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1981080" y="990720"/>
              <a:ext cx="1067040" cy="38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3657600" y="990720"/>
            <a:ext cx="4800600" cy="914400"/>
            <a:chOff x="3657600" y="990720"/>
            <a:chExt cx="4800600" cy="914400"/>
          </a:xfrm>
        </p:grpSpPr>
        <p:sp>
          <p:nvSpPr>
            <p:cNvPr id="62" name=""/>
            <p:cNvSpPr/>
            <p:nvPr/>
          </p:nvSpPr>
          <p:spPr>
            <a:xfrm>
              <a:off x="4800600" y="1371600"/>
              <a:ext cx="3657600" cy="5335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029200" y="1371600"/>
              <a:ext cx="3429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000000"/>
                  </a:solidFill>
                  <a:latin typeface="Times New Roman"/>
                </a:rPr>
                <a:t>Lindenmayer syste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 flipV="1">
              <a:off x="3657600" y="990720"/>
              <a:ext cx="1752480" cy="38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1784520"/>
            <a:ext cx="7772400" cy="2558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1752480"/>
            <a:ext cx="7696080" cy="25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Direct derivat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, 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1,…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: reflexive and transitive closure of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4419720"/>
            <a:ext cx="784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 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  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…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parallel rewriting of all symb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5410080"/>
            <a:ext cx="784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  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  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…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960000" y="4952880"/>
            <a:ext cx="2258280" cy="533520"/>
            <a:chOff x="3960000" y="4952880"/>
            <a:chExt cx="2258280" cy="533520"/>
          </a:xfrm>
        </p:grpSpPr>
        <p:sp>
          <p:nvSpPr>
            <p:cNvPr id="73" name=""/>
            <p:cNvSpPr/>
            <p:nvPr/>
          </p:nvSpPr>
          <p:spPr>
            <a:xfrm rot="5400000">
              <a:off x="3983760" y="49287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rot="5400000">
              <a:off x="4517640" y="49287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rot="5400000">
              <a:off x="5660640" y="49287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609480" y="601992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nd we write: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1784520"/>
            <a:ext cx="7772400" cy="653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17524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anguag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27432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4120" y="5867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3200" spc="-1" strike="noStrike" baseline="4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uag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ll reachable sentential forms in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5400000">
            <a:off x="1659960" y="367164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1312920" y="4318560"/>
            <a:ext cx="1336320" cy="758880"/>
            <a:chOff x="1312920" y="4318560"/>
            <a:chExt cx="1336320" cy="758880"/>
          </a:xfrm>
        </p:grpSpPr>
        <p:sp>
          <p:nvSpPr>
            <p:cNvPr id="87" name=""/>
            <p:cNvSpPr/>
            <p:nvPr/>
          </p:nvSpPr>
          <p:spPr>
            <a:xfrm rot="3814800">
              <a:off x="2003400" y="43956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6690600">
              <a:off x="1414440" y="44316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657360" y="4982760"/>
            <a:ext cx="2539800" cy="853560"/>
            <a:chOff x="657360" y="4982760"/>
            <a:chExt cx="2539800" cy="853560"/>
          </a:xfrm>
        </p:grpSpPr>
        <p:sp>
          <p:nvSpPr>
            <p:cNvPr id="90" name=""/>
            <p:cNvSpPr/>
            <p:nvPr/>
          </p:nvSpPr>
          <p:spPr>
            <a:xfrm rot="7665000">
              <a:off x="783360" y="515664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6690600">
              <a:off x="1393920" y="51570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rot="3814800">
              <a:off x="2003400" y="50814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rot="3083400">
              <a:off x="2536920" y="508176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304920" y="5410080"/>
            <a:ext cx="5029200" cy="581400"/>
            <a:chOff x="304920" y="5410080"/>
            <a:chExt cx="5029200" cy="581400"/>
          </a:xfrm>
        </p:grpSpPr>
        <p:sp>
          <p:nvSpPr>
            <p:cNvPr id="95" name=""/>
            <p:cNvSpPr/>
            <p:nvPr/>
          </p:nvSpPr>
          <p:spPr>
            <a:xfrm>
              <a:off x="304920" y="5410080"/>
              <a:ext cx="3809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  a  a  a  a  a  a  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05320" y="541008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20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3200" spc="-1" strike="noStrike" baseline="40000">
                  <a:solidFill>
                    <a:srgbClr val="3333cc"/>
                  </a:solidFill>
                  <a:latin typeface="Times New Roman"/>
                </a:rPr>
                <a:t>3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30000">
                  <a:solidFill>
                    <a:srgbClr val="3333cc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1143000" y="4724280"/>
            <a:ext cx="4191120" cy="581400"/>
            <a:chOff x="1143000" y="4724280"/>
            <a:chExt cx="4191120" cy="581400"/>
          </a:xfrm>
        </p:grpSpPr>
        <p:sp>
          <p:nvSpPr>
            <p:cNvPr id="98" name=""/>
            <p:cNvSpPr/>
            <p:nvPr/>
          </p:nvSpPr>
          <p:spPr>
            <a:xfrm>
              <a:off x="1143000" y="472428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  a  a  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895480" y="4724280"/>
              <a:ext cx="2438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  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20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3200" spc="-1" strike="noStrike" baseline="40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30000">
                  <a:solidFill>
                    <a:srgbClr val="3333cc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523880" y="4038480"/>
            <a:ext cx="3733920" cy="581400"/>
            <a:chOff x="1523880" y="4038480"/>
            <a:chExt cx="3733920" cy="581400"/>
          </a:xfrm>
        </p:grpSpPr>
        <p:sp>
          <p:nvSpPr>
            <p:cNvPr id="101" name=""/>
            <p:cNvSpPr/>
            <p:nvPr/>
          </p:nvSpPr>
          <p:spPr>
            <a:xfrm>
              <a:off x="1523880" y="403848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  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514600" y="403848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     </a:t>
              </a:r>
              <a:r>
                <a:rPr b="0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20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3200" spc="-1" strike="noStrike" baseline="40000">
                  <a:solidFill>
                    <a:srgbClr val="3333cc"/>
                  </a:solidFill>
                  <a:latin typeface="Times New Roman"/>
                </a:rPr>
                <a:t>1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30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1676520" y="3276720"/>
            <a:ext cx="3581280" cy="581400"/>
            <a:chOff x="1676520" y="3276720"/>
            <a:chExt cx="3581280" cy="581400"/>
          </a:xfrm>
        </p:grpSpPr>
        <p:sp>
          <p:nvSpPr>
            <p:cNvPr id="104" name=""/>
            <p:cNvSpPr/>
            <p:nvPr/>
          </p:nvSpPr>
          <p:spPr>
            <a:xfrm>
              <a:off x="1676520" y="327672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057400" y="3276720"/>
              <a:ext cx="3200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       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20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3200" spc="-1" strike="noStrike" baseline="40000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5410080" y="2666880"/>
            <a:ext cx="3124440" cy="3111480"/>
            <a:chOff x="5410080" y="2666880"/>
            <a:chExt cx="3124440" cy="3111480"/>
          </a:xfrm>
        </p:grpSpPr>
        <p:sp>
          <p:nvSpPr>
            <p:cNvPr id="107" name=""/>
            <p:cNvSpPr/>
            <p:nvPr/>
          </p:nvSpPr>
          <p:spPr>
            <a:xfrm>
              <a:off x="5410080" y="2666880"/>
              <a:ext cx="3124440" cy="243864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010280" y="5257800"/>
              <a:ext cx="1503360" cy="520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L(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flipV="1">
              <a:off x="7924320" y="48006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22920" y="2781360"/>
              <a:ext cx="598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6781680" y="2971800"/>
            <a:ext cx="45720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19920" y="3352680"/>
            <a:ext cx="53316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38880" y="3657600"/>
            <a:ext cx="53352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5880" y="4191120"/>
            <a:ext cx="53352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781680" y="41911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5400000">
            <a:off x="1721160" y="589644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205740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98108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Deterministic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 syste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D0L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re is exactly one rule </a:t>
            </a:r>
            <a:br>
              <a:rPr sz="3200"/>
            </a:b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38862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ariants of L-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determinism and/or no erasing 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15238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is a 0L sy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609480" y="4114800"/>
            <a:ext cx="7925040" cy="2197080"/>
            <a:chOff x="609480" y="4114800"/>
            <a:chExt cx="7925040" cy="2197080"/>
          </a:xfrm>
        </p:grpSpPr>
        <p:sp>
          <p:nvSpPr>
            <p:cNvPr id="125" name=""/>
            <p:cNvSpPr/>
            <p:nvPr/>
          </p:nvSpPr>
          <p:spPr>
            <a:xfrm>
              <a:off x="609480" y="5257800"/>
              <a:ext cx="792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Note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PD0L is a deterministic propagating 0L system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85800" y="4191120"/>
              <a:ext cx="7772400" cy="106668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85800" y="4114800"/>
              <a:ext cx="7848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efinition: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ropagating 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L system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(P0L)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For each 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a </a:t>
              </a:r>
              <a:r>
                <a:rPr b="0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0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holds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9480" y="5791320"/>
              <a:ext cx="792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Note 2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The previous example is a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PD0L system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09480" y="144792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Model of red alga growth by PD0L syst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403848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xample – Red Alga Sim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24480" y="2133720"/>
            <a:ext cx="1309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5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324480" y="4343400"/>
            <a:ext cx="1600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37339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tarting str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24280" y="373392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91120" y="3733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1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2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CVT</cp:lastModifiedBy>
  <dcterms:modified xsi:type="dcterms:W3CDTF">2006-08-30T14:38:54Z</dcterms:modified>
  <cp:revision>167</cp:revision>
  <dc:subject/>
  <dc:title>Alphabets, Strings, and Languages</dc:title>
</cp:coreProperties>
</file>