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107-2995-43AA-ADE1-CDA49D0B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864-FFA5-4F6A-BCC9-C6C1D38C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6E7-BDC7-4B69-8DF3-E2715FDF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3AB-CAE5-4F5E-9A4B-1E4C21CC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495-89C5-400B-A00F-A1F123DC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BF3-20DE-4676-80A7-8E3C04FA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62A-6781-4E7D-ADE5-84F0F36F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2FA-1F62-424C-A137-9E0F3072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40C-FE8A-402F-8F61-5FE2E683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3CD-A9FE-4AD4-BBF2-4B5A86AD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1BD-8A0D-433B-A9D6-9B3599B2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535-ACB9-45A0-99EC-FFC6514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BB35-C585-4860-8503-7A24AD06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ary for loading and saving video (audio)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rious libraries are used, depending on target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mon interface defined in a single bas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‘s inherited class per every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can i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200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36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/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se clas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ample: copying video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Lukáš Polok</cp:lastModifiedBy>
  <dcterms:modified xsi:type="dcterms:W3CDTF">2009-12-15T19:59:17Z</dcterms:modified>
  <cp:revision>23</cp:revision>
  <dc:subject/>
  <dc:title>Snímek 1</dc:title>
</cp:coreProperties>
</file>