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1A5-4164-4C98-9E05-56542EE1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AE3-933C-4527-B219-B4B8ACB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2AC-ACB5-44C4-835E-833C898A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85A-2B75-40EF-88DA-32CDE37F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D05-FAD9-45A2-AF26-F1D12181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ADC-419F-45B6-9D0A-4F9B4EA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249-65BA-4D86-9914-DBDCFFDF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969-3C72-4437-AF5C-EAEBE30D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BAD-1E2F-450E-8A12-8BF9065B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BCB-DE62-4225-B9CB-532D44D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871-1080-4E13-85E4-8FAF673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AF0-7922-40A9-8360-A71A0D0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A04-65F9-476F-BC0A-99C62DFF4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o j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ovna pro načítání a ukládání video (audio) soubor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y různé knihovny dostupné v příslušném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é rozhraní definované v bázové tříd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ou knihovnu vytvořena odvozená tř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um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164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y sou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/Zá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kam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k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ázová tří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kopie video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Stanislav Sumec</cp:lastModifiedBy>
  <dcterms:modified xsi:type="dcterms:W3CDTF">2006-10-06T07:41:25Z</dcterms:modified>
  <cp:revision>22</cp:revision>
  <dc:subject/>
  <dc:title>Snímek 1</dc:title>
</cp:coreProperties>
</file>